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ct" ContentType="image/x-pict"/>
  <Override PartName="/ppt/media/image10.pct" ContentType="image/x-pict"/>
  <Override PartName="/ppt/media/image9.pct" ContentType="image/x-pict"/>
  <Override PartName="/ppt/media/image13.pct" ContentType="image/x-pict"/>
  <Override PartName="/ppt/media/image8.pct" ContentType="image/x-pict"/>
  <Override PartName="/ppt/media/image19.png" ContentType="image/png"/>
  <Override PartName="/ppt/media/image12.pct" ContentType="image/x-pict"/>
  <Override PartName="/ppt/media/image1.png" ContentType="image/png"/>
  <Override PartName="/ppt/media/image18.jpeg" ContentType="image/jpeg"/>
  <Override PartName="/ppt/media/image4.pct" ContentType="image/x-pict"/>
  <Override PartName="/ppt/media/image16.png" ContentType="image/png"/>
  <Override PartName="/ppt/media/image15.png" ContentType="image/png"/>
  <Override PartName="/ppt/media/image7.pct" ContentType="image/x-pict"/>
  <Override PartName="/ppt/media/image2.pct" ContentType="image/x-pict"/>
  <Override PartName="/ppt/media/image5.png" ContentType="image/png"/>
  <Override PartName="/ppt/media/image17.jpeg" ContentType="image/jpeg"/>
  <Override PartName="/ppt/media/image14.pct" ContentType="image/x-pict"/>
  <Override PartName="/ppt/media/image3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B840F-3F49-4913-8991-7AA66C2003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A0B47-DE31-455F-B292-6CB60D8233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A4836-96B7-4177-8E67-8E44C78053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4CBFD-C64C-4FFB-AE38-FDCC685DA5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DF587-C872-49A7-88FB-1790ADA7E3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C532B-9C5D-446F-B616-C61264EBBE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C9235-1243-4170-BEB8-4390FE25A9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BCE25-F3B8-459E-8E67-B2A97734CC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37CD3-9D26-430C-A91A-DF834A6933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D6D8E-407C-4815-9CA6-9F053ED060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B71ED-B9F0-4F44-9926-D4448BE519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0E297-E745-4262-8EF6-9DEACB1F88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0747-96D6-445A-9454-2CE82700EFD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image" Target="../media/image12.pct"/><Relationship Id="rId3" Type="http://schemas.openxmlformats.org/officeDocument/2006/relationships/image" Target="../media/image12.pct"/><Relationship Id="rId4" Type="http://schemas.openxmlformats.org/officeDocument/2006/relationships/image" Target="../media/image12.pct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image" Target="../media/image12.pct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ct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image" Target="../media/image9.pct"/><Relationship Id="rId5" Type="http://schemas.openxmlformats.org/officeDocument/2006/relationships/image" Target="../media/image10.pct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pct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968840" y="741240"/>
            <a:ext cx="532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Wissensmanageme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lern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332440" y="4648320"/>
            <a:ext cx="469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Prof. Dr. Heinz Man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ehrstuhl für Empirische Pädagogi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Pädagogische Psych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PE02486_(p)" descr=""/>
          <p:cNvPicPr/>
          <p:nvPr/>
        </p:nvPicPr>
        <p:blipFill>
          <a:blip r:embed="rId1"/>
          <a:stretch/>
        </p:blipFill>
        <p:spPr>
          <a:xfrm>
            <a:off x="3200400" y="2057400"/>
            <a:ext cx="271296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441800" y="0"/>
            <a:ext cx="640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erschiedene Ebenen des Wissensmanag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2680" y="762120"/>
            <a:ext cx="8532720" cy="6094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600" spc="-1" strike="noStrike">
                <a:solidFill>
                  <a:srgbClr val="000000"/>
                </a:solidFill>
                <a:latin typeface="Times New Roman"/>
              </a:rPr>
              <a:t>Ebene</a:t>
            </a:r>
            <a:r>
              <a:rPr b="1" lang="de-DE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2600" spc="-1" strike="noStrike">
                <a:solidFill>
                  <a:srgbClr val="000000"/>
                </a:solidFill>
                <a:latin typeface="Times New Roman"/>
              </a:rPr>
              <a:t>          Perspektive       Wissensmanagement a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5120" y="457200"/>
            <a:ext cx="80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2680" y="1682640"/>
            <a:ext cx="2206440" cy="606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Times New Roman"/>
              </a:rPr>
              <a:t>Individuu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2680" y="2673360"/>
            <a:ext cx="2206440" cy="9874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Times New Roman"/>
              </a:rPr>
              <a:t>Grupp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Times New Roman"/>
              </a:rPr>
              <a:t>Organis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2680" y="4044960"/>
            <a:ext cx="2206440" cy="682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Times New Roman"/>
              </a:rPr>
              <a:t>Gesellschaf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06640" y="4057560"/>
            <a:ext cx="55720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Times New Roman"/>
              </a:rPr>
              <a:t>soziokulturell</a:t>
            </a:r>
            <a:r>
              <a:rPr b="0" lang="de-DE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700" spc="-1" strike="noStrike">
                <a:solidFill>
                  <a:srgbClr val="000000"/>
                </a:solidFill>
                <a:latin typeface="Times New Roman"/>
              </a:rPr>
              <a:t>gesellschaftliche </a:t>
            </a:r>
            <a:r>
              <a:rPr b="0" lang="de-DE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700" spc="-1" strike="noStrike">
                <a:solidFill>
                  <a:srgbClr val="000000"/>
                </a:solidFill>
                <a:latin typeface="Times New Roman"/>
              </a:rPr>
              <a:t>Aufgab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17080" y="1681200"/>
            <a:ext cx="538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Times New Roman"/>
              </a:rPr>
              <a:t>psychologisch</a:t>
            </a:r>
            <a:r>
              <a:rPr b="0" lang="de-DE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700" spc="-1" strike="noStrike">
                <a:solidFill>
                  <a:srgbClr val="000000"/>
                </a:solidFill>
                <a:latin typeface="Times New Roman"/>
              </a:rPr>
              <a:t>indiv. Kompetenz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3680" y="2595600"/>
            <a:ext cx="502704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Times New Roman"/>
              </a:rPr>
              <a:t>organisations-</a:t>
            </a:r>
            <a:r>
              <a:rPr b="0" lang="de-DE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700" spc="-1" strike="noStrike">
                <a:solidFill>
                  <a:srgbClr val="000000"/>
                </a:solidFill>
                <a:latin typeface="Times New Roman"/>
              </a:rPr>
              <a:t>organisationa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Times New Roman"/>
              </a:rPr>
              <a:t>theoretisch</a:t>
            </a:r>
            <a:r>
              <a:rPr b="0" lang="de-DE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700" spc="-1" strike="noStrike">
                <a:solidFill>
                  <a:srgbClr val="000000"/>
                </a:solidFill>
                <a:latin typeface="Times New Roman"/>
              </a:rPr>
              <a:t>Method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3520" y="4798440"/>
            <a:ext cx="8383320" cy="992880"/>
            <a:chOff x="533520" y="4798440"/>
            <a:chExt cx="8383320" cy="992880"/>
          </a:xfrm>
        </p:grpSpPr>
        <p:sp>
          <p:nvSpPr>
            <p:cNvPr id="148" name=""/>
            <p:cNvSpPr/>
            <p:nvPr/>
          </p:nvSpPr>
          <p:spPr>
            <a:xfrm>
              <a:off x="990720" y="5261040"/>
              <a:ext cx="7467480" cy="5302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600" spc="-1" strike="noStrike">
                  <a:solidFill>
                    <a:srgbClr val="000000"/>
                  </a:solidFill>
                  <a:latin typeface="Times New Roman"/>
                </a:rPr>
                <a:t>Neue Informations- &amp; Kommunikationstechnologi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0788600">
              <a:off x="8534520" y="4798800"/>
              <a:ext cx="380880" cy="838080"/>
            </a:xfrm>
            <a:custGeom>
              <a:avLst/>
              <a:gdLst>
                <a:gd name="textAreaLeft" fmla="*/ 50760 w 380880"/>
                <a:gd name="textAreaRight" fmla="*/ 330120 w 380880"/>
                <a:gd name="textAreaTop" fmla="*/ 146520 h 838080"/>
                <a:gd name="textAreaBottom" fmla="*/ 6076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533520" y="4880880"/>
              <a:ext cx="380880" cy="757080"/>
            </a:xfrm>
            <a:custGeom>
              <a:avLst/>
              <a:gdLst>
                <a:gd name="textAreaLeft" fmla="*/ 50760 w 380880"/>
                <a:gd name="textAreaRight" fmla="*/ 330120 w 380880"/>
                <a:gd name="textAreaTop" fmla="*/ 132480 h 757080"/>
                <a:gd name="textAreaBottom" fmla="*/ 549000 h 75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257160" y="6216480"/>
            <a:ext cx="27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inmann-Rothmeier &amp; Man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397520" y="0"/>
            <a:ext cx="654408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imes New Roman"/>
              </a:rPr>
              <a:t>Die Wissensmanagement - Prozesskategori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5120" y="457200"/>
            <a:ext cx="80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35880" y="5253120"/>
            <a:ext cx="1974600" cy="614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5181480"/>
            <a:ext cx="1974960" cy="6145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Zielse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39640" y="690480"/>
            <a:ext cx="8064720" cy="3576600"/>
            <a:chOff x="539640" y="690480"/>
            <a:chExt cx="8064720" cy="3576600"/>
          </a:xfrm>
        </p:grpSpPr>
        <p:sp>
          <p:nvSpPr>
            <p:cNvPr id="157" name=""/>
            <p:cNvSpPr/>
            <p:nvPr/>
          </p:nvSpPr>
          <p:spPr>
            <a:xfrm>
              <a:off x="2901960" y="766800"/>
              <a:ext cx="3498840" cy="7491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Wissenskommunik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5800" y="1909800"/>
              <a:ext cx="2743200" cy="8334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Wissens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repräs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30560" y="3281400"/>
              <a:ext cx="3117960" cy="7491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Wissensgenerier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9640" y="690480"/>
              <a:ext cx="8064720" cy="3576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38680" y="1828800"/>
              <a:ext cx="2819520" cy="7621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Wissensnutz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6248520" y="2590920"/>
              <a:ext cx="76176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00800" y="1143000"/>
              <a:ext cx="7621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1904760" y="1143000"/>
              <a:ext cx="9903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05120" y="2743200"/>
              <a:ext cx="12189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2000" y="1523880"/>
              <a:ext cx="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29000" y="228600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6934320" y="3809880"/>
            <a:ext cx="1295280" cy="1219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00400" y="5029200"/>
            <a:ext cx="2666880" cy="914400"/>
          </a:xfrm>
          <a:prstGeom prst="leftArrow">
            <a:avLst>
              <a:gd name="adj1" fmla="val 50000"/>
              <a:gd name="adj2" fmla="val 7291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3733920"/>
            <a:ext cx="1295280" cy="12189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28560" y="6140520"/>
            <a:ext cx="27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inmann-Rothmeier &amp; Man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53920" y="0"/>
            <a:ext cx="5628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Prozesse der Wissensreprä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800" y="538200"/>
            <a:ext cx="80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1295280"/>
            <a:ext cx="2819520" cy="454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ssen bewa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1219320"/>
            <a:ext cx="2819520" cy="454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ssen identifiz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15200" y="2971800"/>
            <a:ext cx="1752480" cy="820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odifiz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2743200"/>
            <a:ext cx="2133720" cy="1186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ssen explizit und zugänglich ma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5324400"/>
            <a:ext cx="3124080" cy="454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ssen dokument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15000" y="5324400"/>
            <a:ext cx="2895480" cy="454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ssen aufber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095560" y="1685880"/>
            <a:ext cx="5219640" cy="3638880"/>
            <a:chOff x="2095560" y="1685880"/>
            <a:chExt cx="5219640" cy="3638880"/>
          </a:xfrm>
        </p:grpSpPr>
        <p:sp>
          <p:nvSpPr>
            <p:cNvPr id="181" name=""/>
            <p:cNvSpPr/>
            <p:nvPr/>
          </p:nvSpPr>
          <p:spPr>
            <a:xfrm>
              <a:off x="2895480" y="2514600"/>
              <a:ext cx="3810240" cy="16765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Times New Roman"/>
                </a:rPr>
                <a:t>Wissens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Times New Roman"/>
                </a:rPr>
                <a:t>repräsent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2" name=""/>
            <p:cNvCxnSpPr>
              <a:stCxn id="181" idx="7"/>
              <a:endCxn id="174" idx="2"/>
            </p:cNvCxnSpPr>
            <p:nvPr/>
          </p:nvCxnSpPr>
          <p:spPr>
            <a:xfrm flipV="1">
              <a:off x="6148080" y="1762200"/>
              <a:ext cx="1129320" cy="99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3" name=""/>
            <p:cNvCxnSpPr>
              <a:stCxn id="181" idx="6"/>
              <a:endCxn id="176" idx="1"/>
            </p:cNvCxnSpPr>
            <p:nvPr/>
          </p:nvCxnSpPr>
          <p:spPr>
            <a:xfrm>
              <a:off x="6705360" y="3352320"/>
              <a:ext cx="610200" cy="35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4" name=""/>
            <p:cNvCxnSpPr>
              <a:stCxn id="181" idx="5"/>
              <a:endCxn id="179" idx="0"/>
            </p:cNvCxnSpPr>
            <p:nvPr/>
          </p:nvCxnSpPr>
          <p:spPr>
            <a:xfrm>
              <a:off x="6148440" y="3944880"/>
              <a:ext cx="1015200" cy="1380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5" name=""/>
            <p:cNvCxnSpPr>
              <a:stCxn id="181" idx="3"/>
              <a:endCxn id="178" idx="0"/>
            </p:cNvCxnSpPr>
            <p:nvPr/>
          </p:nvCxnSpPr>
          <p:spPr>
            <a:xfrm flipH="1">
              <a:off x="2476080" y="3944880"/>
              <a:ext cx="977040" cy="1380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6" name=""/>
            <p:cNvCxnSpPr>
              <a:stCxn id="181" idx="2"/>
              <a:endCxn id="177" idx="3"/>
            </p:cNvCxnSpPr>
            <p:nvPr/>
          </p:nvCxnSpPr>
          <p:spPr>
            <a:xfrm flipH="1" flipV="1">
              <a:off x="2361600" y="3340800"/>
              <a:ext cx="533880" cy="11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>
              <a:stCxn id="175" idx="2"/>
              <a:endCxn id="181" idx="1"/>
            </p:cNvCxnSpPr>
            <p:nvPr/>
          </p:nvCxnSpPr>
          <p:spPr>
            <a:xfrm>
              <a:off x="2095560" y="1685880"/>
              <a:ext cx="1357920" cy="1075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188" name=""/>
          <p:cNvSpPr/>
          <p:nvPr/>
        </p:nvSpPr>
        <p:spPr>
          <a:xfrm>
            <a:off x="6028560" y="6140520"/>
            <a:ext cx="27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inmann-Rothmeier &amp; Man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231920" y="0"/>
            <a:ext cx="67528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Wissensrepräsentation: Wissenslandkar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8800" y="538200"/>
            <a:ext cx="80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33520" y="838080"/>
            <a:ext cx="5790960" cy="2895840"/>
            <a:chOff x="533520" y="838080"/>
            <a:chExt cx="5790960" cy="2895840"/>
          </a:xfrm>
        </p:grpSpPr>
        <p:sp>
          <p:nvSpPr>
            <p:cNvPr id="192" name=""/>
            <p:cNvSpPr/>
            <p:nvPr/>
          </p:nvSpPr>
          <p:spPr>
            <a:xfrm>
              <a:off x="1011600" y="838080"/>
              <a:ext cx="1112040" cy="459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Nutz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3520" y="990720"/>
              <a:ext cx="533160" cy="1143000"/>
            </a:xfrm>
            <a:custGeom>
              <a:avLst/>
              <a:gdLst>
                <a:gd name="textAreaLeft" fmla="*/ 71280 w 533160"/>
                <a:gd name="textAreaRight" fmla="*/ 461880 w 533160"/>
                <a:gd name="textAreaTop" fmla="*/ 199800 h 1143000"/>
                <a:gd name="textAreaBottom" fmla="*/ 82872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66680" y="1523880"/>
              <a:ext cx="5257800" cy="22100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Mehr Wissenstransparen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Bessere wissenssu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Leichterer Wissenszugri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Verbindung von „Wissensinseln“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Nutzungserhöhung durch Visualisier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124080" y="4038480"/>
            <a:ext cx="4267440" cy="2210040"/>
            <a:chOff x="3124080" y="4038480"/>
            <a:chExt cx="4267440" cy="2210040"/>
          </a:xfrm>
        </p:grpSpPr>
        <p:sp>
          <p:nvSpPr>
            <p:cNvPr id="196" name=""/>
            <p:cNvSpPr/>
            <p:nvPr/>
          </p:nvSpPr>
          <p:spPr>
            <a:xfrm>
              <a:off x="4516920" y="4038480"/>
              <a:ext cx="241632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Voraussetzun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34320" y="4157640"/>
              <a:ext cx="457200" cy="83664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146160 h 836640"/>
                <a:gd name="textAreaBottom" fmla="*/ 606600 h 83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24080" y="4695840"/>
              <a:ext cx="3733920" cy="1552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Pflege und Aktualisier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Offenlegung von Wiss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Nutzungsbereitscha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959120" y="0"/>
            <a:ext cx="5230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Prozesse der Wissensgeneri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800" y="538200"/>
            <a:ext cx="80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1295280"/>
            <a:ext cx="2819520" cy="454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ernproz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219320"/>
            <a:ext cx="3352680" cy="454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ssen „importieren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315200" y="2971800"/>
            <a:ext cx="1752480" cy="820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ssen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tzwer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2743200"/>
            <a:ext cx="2133720" cy="1186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ssen ex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wer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z.B. Fusion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4952880"/>
            <a:ext cx="2361960" cy="820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orschung 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twick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15000" y="5324400"/>
            <a:ext cx="2895480" cy="820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ues Wissen d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ssensexpliz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361600" y="1685880"/>
            <a:ext cx="4953600" cy="3638880"/>
            <a:chOff x="2361600" y="1685880"/>
            <a:chExt cx="4953600" cy="3638880"/>
          </a:xfrm>
        </p:grpSpPr>
        <p:sp>
          <p:nvSpPr>
            <p:cNvPr id="208" name=""/>
            <p:cNvSpPr/>
            <p:nvPr/>
          </p:nvSpPr>
          <p:spPr>
            <a:xfrm>
              <a:off x="2895480" y="2514600"/>
              <a:ext cx="3810240" cy="16765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Times New Roman"/>
                </a:rPr>
                <a:t>Wissens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Times New Roman"/>
                </a:rPr>
                <a:t>generieru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9" name=""/>
            <p:cNvCxnSpPr>
              <a:stCxn id="208" idx="7"/>
              <a:endCxn id="201" idx="2"/>
            </p:cNvCxnSpPr>
            <p:nvPr/>
          </p:nvCxnSpPr>
          <p:spPr>
            <a:xfrm flipV="1">
              <a:off x="6148080" y="1762200"/>
              <a:ext cx="1129320" cy="99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0" name=""/>
            <p:cNvCxnSpPr>
              <a:stCxn id="208" idx="6"/>
              <a:endCxn id="203" idx="1"/>
            </p:cNvCxnSpPr>
            <p:nvPr/>
          </p:nvCxnSpPr>
          <p:spPr>
            <a:xfrm>
              <a:off x="6705360" y="3352320"/>
              <a:ext cx="610200" cy="35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"/>
            <p:cNvCxnSpPr>
              <a:stCxn id="208" idx="5"/>
              <a:endCxn id="206" idx="0"/>
            </p:cNvCxnSpPr>
            <p:nvPr/>
          </p:nvCxnSpPr>
          <p:spPr>
            <a:xfrm>
              <a:off x="6148440" y="3944880"/>
              <a:ext cx="1015200" cy="1380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2" name=""/>
            <p:cNvCxnSpPr>
              <a:stCxn id="208" idx="3"/>
              <a:endCxn id="205" idx="0"/>
            </p:cNvCxnSpPr>
            <p:nvPr/>
          </p:nvCxnSpPr>
          <p:spPr>
            <a:xfrm flipH="1">
              <a:off x="2399760" y="3944880"/>
              <a:ext cx="1053000" cy="1008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"/>
            <p:cNvCxnSpPr>
              <a:stCxn id="208" idx="2"/>
              <a:endCxn id="204" idx="3"/>
            </p:cNvCxnSpPr>
            <p:nvPr/>
          </p:nvCxnSpPr>
          <p:spPr>
            <a:xfrm flipH="1" flipV="1">
              <a:off x="2361600" y="3340800"/>
              <a:ext cx="533880" cy="11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4" name=""/>
            <p:cNvCxnSpPr>
              <a:stCxn id="202" idx="2"/>
              <a:endCxn id="208" idx="1"/>
            </p:cNvCxnSpPr>
            <p:nvPr/>
          </p:nvCxnSpPr>
          <p:spPr>
            <a:xfrm>
              <a:off x="2361960" y="1685880"/>
              <a:ext cx="1091160" cy="1075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215" name=""/>
          <p:cNvSpPr/>
          <p:nvPr/>
        </p:nvSpPr>
        <p:spPr>
          <a:xfrm>
            <a:off x="6028560" y="6521400"/>
            <a:ext cx="27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inmann-Rothmeier &amp; Man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665360" y="0"/>
            <a:ext cx="58978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Wissensgenerierung: Szenariotech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800" y="538200"/>
            <a:ext cx="80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33520" y="914400"/>
            <a:ext cx="7315200" cy="2666520"/>
            <a:chOff x="533520" y="914400"/>
            <a:chExt cx="7315200" cy="2666520"/>
          </a:xfrm>
        </p:grpSpPr>
        <p:sp>
          <p:nvSpPr>
            <p:cNvPr id="219" name=""/>
            <p:cNvSpPr/>
            <p:nvPr/>
          </p:nvSpPr>
          <p:spPr>
            <a:xfrm>
              <a:off x="1090800" y="914400"/>
              <a:ext cx="1112040" cy="459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Nutz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33520" y="1066680"/>
              <a:ext cx="533160" cy="1142640"/>
            </a:xfrm>
            <a:custGeom>
              <a:avLst/>
              <a:gdLst>
                <a:gd name="textAreaLeft" fmla="*/ 71280 w 533160"/>
                <a:gd name="textAreaRight" fmla="*/ 461880 w 533160"/>
                <a:gd name="textAreaTop" fmla="*/ 199800 h 1142640"/>
                <a:gd name="textAreaBottom" fmla="*/ 828360 h 114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66680" y="1676160"/>
              <a:ext cx="6782040" cy="1904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Mehr Kreativität und vernetztes Denk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nnovationsförder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Berücksichtigung multipler Perspektiv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Entwicklung mehrdimensionaler Lösungsansä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2057400" y="3962520"/>
            <a:ext cx="6629400" cy="2295000"/>
            <a:chOff x="2057400" y="3962520"/>
            <a:chExt cx="6629400" cy="2295000"/>
          </a:xfrm>
        </p:grpSpPr>
        <p:sp>
          <p:nvSpPr>
            <p:cNvPr id="223" name=""/>
            <p:cNvSpPr/>
            <p:nvPr/>
          </p:nvSpPr>
          <p:spPr>
            <a:xfrm>
              <a:off x="5798160" y="3962520"/>
              <a:ext cx="241632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Voraussetzun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229600" y="4201920"/>
              <a:ext cx="457200" cy="83628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146160 h 836280"/>
                <a:gd name="textAreaBottom" fmla="*/ 606240 h 83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057400" y="4705200"/>
              <a:ext cx="6172200" cy="1552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Komplexe Frage-/Problemstellun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Offenheit für Unplanba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Bereitschaft für kritische Auseinandersetzun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250000" y="0"/>
            <a:ext cx="4642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Prozesse der Wissensnutz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8800" y="538200"/>
            <a:ext cx="80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38280" y="990720"/>
            <a:ext cx="4648320" cy="454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ssen in Produkte transform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315200" y="2743200"/>
            <a:ext cx="1752480" cy="1186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ssen in Handl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set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2743200"/>
            <a:ext cx="2209680" cy="1186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ssen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tscheid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set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828800" y="5486400"/>
            <a:ext cx="6019920" cy="454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ssen in Dienstleistungen transform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208960" y="1456920"/>
            <a:ext cx="5106240" cy="4029840"/>
            <a:chOff x="2208960" y="1456920"/>
            <a:chExt cx="5106240" cy="4029840"/>
          </a:xfrm>
        </p:grpSpPr>
        <p:sp>
          <p:nvSpPr>
            <p:cNvPr id="233" name=""/>
            <p:cNvSpPr/>
            <p:nvPr/>
          </p:nvSpPr>
          <p:spPr>
            <a:xfrm>
              <a:off x="2895480" y="2514600"/>
              <a:ext cx="3810240" cy="16765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Times New Roman"/>
                </a:rPr>
                <a:t>Wissens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Times New Roman"/>
                </a:rPr>
                <a:t>nutzu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4" name=""/>
            <p:cNvCxnSpPr>
              <a:stCxn id="233" idx="6"/>
              <a:endCxn id="229" idx="1"/>
            </p:cNvCxnSpPr>
            <p:nvPr/>
          </p:nvCxnSpPr>
          <p:spPr>
            <a:xfrm flipV="1">
              <a:off x="6705360" y="3340800"/>
              <a:ext cx="610200" cy="11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5" name=""/>
            <p:cNvCxnSpPr>
              <a:stCxn id="233" idx="4"/>
              <a:endCxn id="231" idx="0"/>
            </p:cNvCxnSpPr>
            <p:nvPr/>
          </p:nvCxnSpPr>
          <p:spPr>
            <a:xfrm>
              <a:off x="4800600" y="4191120"/>
              <a:ext cx="38880" cy="1296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6" name=""/>
            <p:cNvCxnSpPr>
              <a:stCxn id="233" idx="2"/>
              <a:endCxn id="230" idx="3"/>
            </p:cNvCxnSpPr>
            <p:nvPr/>
          </p:nvCxnSpPr>
          <p:spPr>
            <a:xfrm flipH="1" flipV="1">
              <a:off x="2208960" y="3340800"/>
              <a:ext cx="686520" cy="11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7" name=""/>
            <p:cNvCxnSpPr>
              <a:stCxn id="228" idx="2"/>
              <a:endCxn id="233" idx="0"/>
            </p:cNvCxnSpPr>
            <p:nvPr/>
          </p:nvCxnSpPr>
          <p:spPr>
            <a:xfrm>
              <a:off x="4762440" y="1456920"/>
              <a:ext cx="38880" cy="1058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238" name=""/>
          <p:cNvSpPr/>
          <p:nvPr/>
        </p:nvSpPr>
        <p:spPr>
          <a:xfrm>
            <a:off x="6180840" y="6369120"/>
            <a:ext cx="27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inmann-Rothmeier &amp; Man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887480" y="0"/>
            <a:ext cx="5416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Wissensnutzung: Lessons Lear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8800" y="538200"/>
            <a:ext cx="80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6320" y="609480"/>
            <a:ext cx="5790960" cy="2895840"/>
            <a:chOff x="76320" y="609480"/>
            <a:chExt cx="5790960" cy="2895840"/>
          </a:xfrm>
        </p:grpSpPr>
        <p:sp>
          <p:nvSpPr>
            <p:cNvPr id="242" name=""/>
            <p:cNvSpPr/>
            <p:nvPr/>
          </p:nvSpPr>
          <p:spPr>
            <a:xfrm>
              <a:off x="605880" y="609480"/>
              <a:ext cx="1061640" cy="459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Nutz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6320" y="762120"/>
              <a:ext cx="533160" cy="1143000"/>
            </a:xfrm>
            <a:custGeom>
              <a:avLst/>
              <a:gdLst>
                <a:gd name="textAreaLeft" fmla="*/ 71280 w 533160"/>
                <a:gd name="textAreaRight" fmla="*/ 461880 w 533160"/>
                <a:gd name="textAreaTop" fmla="*/ 199800 h 1143000"/>
                <a:gd name="textAreaBottom" fmla="*/ 82872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9480" y="1295280"/>
              <a:ext cx="5257800" cy="22100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Lerneffekt durch Lernen aus Fehler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Sensibilisierung für mögliche Proble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Nutzung gemachter Erfahrun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Verstärkung der Fehlerkult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600200" y="3505320"/>
            <a:ext cx="7467120" cy="2819160"/>
            <a:chOff x="1600200" y="3505320"/>
            <a:chExt cx="7467120" cy="2819160"/>
          </a:xfrm>
        </p:grpSpPr>
        <p:sp>
          <p:nvSpPr>
            <p:cNvPr id="246" name=""/>
            <p:cNvSpPr/>
            <p:nvPr/>
          </p:nvSpPr>
          <p:spPr>
            <a:xfrm>
              <a:off x="6329160" y="3505320"/>
              <a:ext cx="228240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Voraussetzun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610480" y="3657600"/>
              <a:ext cx="456840" cy="1066680"/>
            </a:xfrm>
            <a:custGeom>
              <a:avLst/>
              <a:gdLst>
                <a:gd name="textAreaLeft" fmla="*/ 61200 w 456840"/>
                <a:gd name="textAreaRight" fmla="*/ 395640 w 456840"/>
                <a:gd name="textAreaTop" fmla="*/ 186480 h 1066680"/>
                <a:gd name="textAreaBottom" fmla="*/ 77328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600200" y="4343400"/>
              <a:ext cx="6933960" cy="1981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Bereitschaft Fehler zuzugeben und zu kommunizier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Mindestmaß an Fehlerkult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Vorbilder und Anreize zum konstruktive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Umgang mit Fehler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664280" y="0"/>
            <a:ext cx="5829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Prozesse der Wissenskommunik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800" y="538200"/>
            <a:ext cx="80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295280"/>
            <a:ext cx="2819520" cy="454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ssen austaus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1219320"/>
            <a:ext cx="3352680" cy="454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ssen weiterg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315200" y="3114720"/>
            <a:ext cx="1752480" cy="454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ooper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2743200"/>
            <a:ext cx="2133720" cy="1186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ssen unte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i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38280" y="5324400"/>
            <a:ext cx="4724640" cy="454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ssen gemeinsam konstru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361600" y="1685880"/>
            <a:ext cx="4953600" cy="3638880"/>
            <a:chOff x="2361600" y="1685880"/>
            <a:chExt cx="4953600" cy="3638880"/>
          </a:xfrm>
        </p:grpSpPr>
        <p:sp>
          <p:nvSpPr>
            <p:cNvPr id="257" name=""/>
            <p:cNvSpPr/>
            <p:nvPr/>
          </p:nvSpPr>
          <p:spPr>
            <a:xfrm>
              <a:off x="2895480" y="2514600"/>
              <a:ext cx="3810240" cy="16765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Times New Roman"/>
                </a:rPr>
                <a:t>Wissens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Times New Roman"/>
                </a:rPr>
                <a:t>kommunik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8" name=""/>
            <p:cNvCxnSpPr>
              <a:stCxn id="257" idx="7"/>
              <a:endCxn id="251" idx="2"/>
            </p:cNvCxnSpPr>
            <p:nvPr/>
          </p:nvCxnSpPr>
          <p:spPr>
            <a:xfrm flipV="1">
              <a:off x="6148080" y="1762200"/>
              <a:ext cx="1129320" cy="99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9" name=""/>
            <p:cNvCxnSpPr>
              <a:stCxn id="257" idx="6"/>
              <a:endCxn id="253" idx="1"/>
            </p:cNvCxnSpPr>
            <p:nvPr/>
          </p:nvCxnSpPr>
          <p:spPr>
            <a:xfrm flipV="1">
              <a:off x="6705360" y="3347280"/>
              <a:ext cx="610200" cy="5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0" name=""/>
            <p:cNvCxnSpPr>
              <a:stCxn id="257" idx="4"/>
              <a:endCxn id="255" idx="0"/>
            </p:cNvCxnSpPr>
            <p:nvPr/>
          </p:nvCxnSpPr>
          <p:spPr>
            <a:xfrm>
              <a:off x="4800240" y="4191120"/>
              <a:ext cx="1080" cy="1134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1" name=""/>
            <p:cNvCxnSpPr>
              <a:stCxn id="257" idx="2"/>
              <a:endCxn id="254" idx="3"/>
            </p:cNvCxnSpPr>
            <p:nvPr/>
          </p:nvCxnSpPr>
          <p:spPr>
            <a:xfrm flipH="1" flipV="1">
              <a:off x="2361600" y="3340800"/>
              <a:ext cx="533880" cy="11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2" name=""/>
            <p:cNvCxnSpPr>
              <a:stCxn id="252" idx="2"/>
              <a:endCxn id="257" idx="1"/>
            </p:cNvCxnSpPr>
            <p:nvPr/>
          </p:nvCxnSpPr>
          <p:spPr>
            <a:xfrm>
              <a:off x="2361960" y="1685880"/>
              <a:ext cx="1091160" cy="1075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263" name=""/>
          <p:cNvSpPr/>
          <p:nvPr/>
        </p:nvSpPr>
        <p:spPr>
          <a:xfrm>
            <a:off x="6180840" y="6216480"/>
            <a:ext cx="27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inmann-Rothmeier &amp; Man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9840" y="441360"/>
            <a:ext cx="789228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Warum ist Wissens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so bedeutsa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Der Umgang mit Wissen i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eigentlich nichts Ne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E01616_" descr=""/>
          <p:cNvPicPr/>
          <p:nvPr/>
        </p:nvPicPr>
        <p:blipFill>
          <a:blip r:embed="rId1"/>
          <a:stretch/>
        </p:blipFill>
        <p:spPr>
          <a:xfrm>
            <a:off x="2819520" y="3352680"/>
            <a:ext cx="342900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596240" y="1440"/>
            <a:ext cx="6027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ymptome schlechter Kommunik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2680" y="533520"/>
            <a:ext cx="807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54080" y="841320"/>
            <a:ext cx="4111560" cy="1978200"/>
            <a:chOff x="154080" y="841320"/>
            <a:chExt cx="4111560" cy="1978200"/>
          </a:xfrm>
        </p:grpSpPr>
        <p:sp>
          <p:nvSpPr>
            <p:cNvPr id="267" name=""/>
            <p:cNvSpPr/>
            <p:nvPr/>
          </p:nvSpPr>
          <p:spPr>
            <a:xfrm>
              <a:off x="458640" y="1603440"/>
              <a:ext cx="3807000" cy="1216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Keine konstruktive Streit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nd Konfliktkult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54080" y="841320"/>
              <a:ext cx="3231000" cy="4546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Groupthink-Phänom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9" name="" descr=""/>
            <p:cNvPicPr/>
            <p:nvPr/>
          </p:nvPicPr>
          <p:blipFill>
            <a:blip r:embed="rId1"/>
            <a:stretch/>
          </p:blipFill>
          <p:spPr>
            <a:xfrm>
              <a:off x="1473120" y="1017720"/>
              <a:ext cx="1397160" cy="10922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</p:pic>
      </p:grpSp>
      <p:grpSp>
        <p:nvGrpSpPr>
          <p:cNvPr id="270" name=""/>
          <p:cNvGrpSpPr/>
          <p:nvPr/>
        </p:nvGrpSpPr>
        <p:grpSpPr>
          <a:xfrm>
            <a:off x="4343400" y="1603440"/>
            <a:ext cx="4646520" cy="1977480"/>
            <a:chOff x="4343400" y="1603440"/>
            <a:chExt cx="4646520" cy="1977480"/>
          </a:xfrm>
        </p:grpSpPr>
        <p:sp>
          <p:nvSpPr>
            <p:cNvPr id="271" name=""/>
            <p:cNvSpPr/>
            <p:nvPr/>
          </p:nvSpPr>
          <p:spPr>
            <a:xfrm>
              <a:off x="5183280" y="2365200"/>
              <a:ext cx="3806640" cy="1215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Kein ausgewoge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nformationsaustaus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43400" y="1603440"/>
              <a:ext cx="4620960" cy="4546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Vermeidung kognitiver Dissonan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3" name="" descr=""/>
            <p:cNvPicPr/>
            <p:nvPr/>
          </p:nvPicPr>
          <p:blipFill>
            <a:blip r:embed="rId2"/>
            <a:stretch/>
          </p:blipFill>
          <p:spPr>
            <a:xfrm>
              <a:off x="5664240" y="1779480"/>
              <a:ext cx="1396800" cy="10918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</p:pic>
      </p:grpSp>
      <p:grpSp>
        <p:nvGrpSpPr>
          <p:cNvPr id="274" name=""/>
          <p:cNvGrpSpPr/>
          <p:nvPr/>
        </p:nvGrpSpPr>
        <p:grpSpPr>
          <a:xfrm>
            <a:off x="151200" y="3583080"/>
            <a:ext cx="4114440" cy="1977840"/>
            <a:chOff x="151200" y="3583080"/>
            <a:chExt cx="4114440" cy="1977840"/>
          </a:xfrm>
        </p:grpSpPr>
        <p:sp>
          <p:nvSpPr>
            <p:cNvPr id="275" name=""/>
            <p:cNvSpPr/>
            <p:nvPr/>
          </p:nvSpPr>
          <p:spPr>
            <a:xfrm>
              <a:off x="458640" y="4344840"/>
              <a:ext cx="3807000" cy="1216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Keine Informationsvortei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nd Synergieeffek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51200" y="3583080"/>
              <a:ext cx="3596760" cy="4546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Hidden Profile-Phänom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7" name="" descr=""/>
            <p:cNvPicPr/>
            <p:nvPr/>
          </p:nvPicPr>
          <p:blipFill>
            <a:blip r:embed="rId3"/>
            <a:stretch/>
          </p:blipFill>
          <p:spPr>
            <a:xfrm>
              <a:off x="1473120" y="3759120"/>
              <a:ext cx="1397160" cy="10922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</p:pic>
      </p:grpSp>
      <p:grpSp>
        <p:nvGrpSpPr>
          <p:cNvPr id="278" name=""/>
          <p:cNvGrpSpPr/>
          <p:nvPr/>
        </p:nvGrpSpPr>
        <p:grpSpPr>
          <a:xfrm>
            <a:off x="4287600" y="4343400"/>
            <a:ext cx="4780800" cy="2055600"/>
            <a:chOff x="4287600" y="4343400"/>
            <a:chExt cx="4780800" cy="2055600"/>
          </a:xfrm>
        </p:grpSpPr>
        <p:sp>
          <p:nvSpPr>
            <p:cNvPr id="279" name=""/>
            <p:cNvSpPr/>
            <p:nvPr/>
          </p:nvSpPr>
          <p:spPr>
            <a:xfrm>
              <a:off x="5106960" y="5182920"/>
              <a:ext cx="3807000" cy="1216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Kein ungehindert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nformationsflu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87600" y="4343400"/>
              <a:ext cx="4780800" cy="4546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Polares Ingroup-Outgroup-Denk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1" name="" descr=""/>
            <p:cNvPicPr/>
            <p:nvPr/>
          </p:nvPicPr>
          <p:blipFill>
            <a:blip r:embed="rId4"/>
            <a:stretch/>
          </p:blipFill>
          <p:spPr>
            <a:xfrm>
              <a:off x="5664240" y="4597200"/>
              <a:ext cx="1396800" cy="10922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493560" y="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Kooperationsprobl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0" y="533520"/>
            <a:ext cx="8746920" cy="6248160"/>
            <a:chOff x="0" y="533520"/>
            <a:chExt cx="8746920" cy="6248160"/>
          </a:xfrm>
        </p:grpSpPr>
        <p:sp>
          <p:nvSpPr>
            <p:cNvPr id="284" name=""/>
            <p:cNvSpPr/>
            <p:nvPr/>
          </p:nvSpPr>
          <p:spPr>
            <a:xfrm>
              <a:off x="349200" y="533520"/>
              <a:ext cx="806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404360" y="693720"/>
              <a:ext cx="566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Das „Hans-der-macht`s-dann-eh“-Phänom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968200" y="1608120"/>
              <a:ext cx="556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Das „Ja-bin-ich-denn-der-Depp“-Phänom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398960" y="2751120"/>
              <a:ext cx="734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Das „Da-mach-ich`s-doch-gleich-lieber-selbst“-Phänom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360" y="2590920"/>
              <a:ext cx="1332000" cy="685800"/>
            </a:xfrm>
            <a:custGeom>
              <a:avLst/>
              <a:gdLst>
                <a:gd name="textAreaLeft" fmla="*/ 208080 w 1332000"/>
                <a:gd name="textAreaRight" fmla="*/ 1165680 w 1332000"/>
                <a:gd name="textAreaTop" fmla="*/ 171360 h 685800"/>
                <a:gd name="textAreaBottom" fmla="*/ 51444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600200" y="1523880"/>
              <a:ext cx="1332000" cy="685800"/>
            </a:xfrm>
            <a:custGeom>
              <a:avLst/>
              <a:gdLst>
                <a:gd name="textAreaLeft" fmla="*/ 208080 w 1332000"/>
                <a:gd name="textAreaRight" fmla="*/ 1165680 w 1332000"/>
                <a:gd name="textAreaTop" fmla="*/ 171360 h 685800"/>
                <a:gd name="textAreaBottom" fmla="*/ 51444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0" y="609480"/>
              <a:ext cx="1332000" cy="685800"/>
            </a:xfrm>
            <a:custGeom>
              <a:avLst/>
              <a:gdLst>
                <a:gd name="textAreaLeft" fmla="*/ 208080 w 1332000"/>
                <a:gd name="textAreaRight" fmla="*/ 1165680 w 1332000"/>
                <a:gd name="textAreaTop" fmla="*/ 171360 h 685800"/>
                <a:gd name="textAreaBottom" fmla="*/ 51444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902320" y="3894120"/>
              <a:ext cx="541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Das „Kann-ich-nicht-mach-du“-Phänom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35040" y="3809880"/>
              <a:ext cx="1332000" cy="685800"/>
            </a:xfrm>
            <a:custGeom>
              <a:avLst/>
              <a:gdLst>
                <a:gd name="textAreaLeft" fmla="*/ 208080 w 1332000"/>
                <a:gd name="textAreaRight" fmla="*/ 1165680 w 1332000"/>
                <a:gd name="textAreaTop" fmla="*/ 171360 h 685800"/>
                <a:gd name="textAreaBottom" fmla="*/ 51444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00040" y="5113440"/>
              <a:ext cx="595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Das „Ich-hab-meinen-Teil-erledigt“-Phänom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6360" y="5029200"/>
              <a:ext cx="1332000" cy="685800"/>
            </a:xfrm>
            <a:custGeom>
              <a:avLst/>
              <a:gdLst>
                <a:gd name="textAreaLeft" fmla="*/ 208080 w 1332000"/>
                <a:gd name="textAreaRight" fmla="*/ 1165680 w 1332000"/>
                <a:gd name="textAreaTop" fmla="*/ 171360 h 685800"/>
                <a:gd name="textAreaBottom" fmla="*/ 51444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927880" y="6180120"/>
              <a:ext cx="561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Das „Gruppenarbeit-nein-danke“-Phänom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560600" y="6095880"/>
              <a:ext cx="1332000" cy="685800"/>
            </a:xfrm>
            <a:custGeom>
              <a:avLst/>
              <a:gdLst>
                <a:gd name="textAreaLeft" fmla="*/ 208080 w 1332000"/>
                <a:gd name="textAreaRight" fmla="*/ 1165680 w 1332000"/>
                <a:gd name="textAreaTop" fmla="*/ 171360 h 685800"/>
                <a:gd name="textAreaBottom" fmla="*/ 51444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259640" y="1440"/>
            <a:ext cx="67467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rsachen für eine defizitä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Kommunikations- und Kooperationskul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6360" y="1066680"/>
            <a:ext cx="807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17920" y="1373040"/>
            <a:ext cx="3910680" cy="880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Probleme des Macht- un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Autoritätsverlus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959280" y="2895480"/>
            <a:ext cx="4038840" cy="484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Ressort- und Revierdenk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01920" y="5518080"/>
            <a:ext cx="3682080" cy="880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Falsche Führungskräfte-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auswah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70880" y="4876920"/>
            <a:ext cx="3095280" cy="8809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Falsche Belohnungs-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mechanism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80040" y="4191120"/>
            <a:ext cx="3090600" cy="48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Geheime Spielregel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609480" y="1447920"/>
          <a:ext cx="289584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289584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413360" y="1440"/>
            <a:ext cx="64252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Voraussetzung für gute Kommunik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&amp; Ko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2680" y="990720"/>
            <a:ext cx="807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54800" y="1274760"/>
            <a:ext cx="4339440" cy="2230200"/>
            <a:chOff x="154800" y="1274760"/>
            <a:chExt cx="4339440" cy="2230200"/>
          </a:xfrm>
        </p:grpSpPr>
        <p:sp>
          <p:nvSpPr>
            <p:cNvPr id="309" name=""/>
            <p:cNvSpPr/>
            <p:nvPr/>
          </p:nvSpPr>
          <p:spPr>
            <a:xfrm>
              <a:off x="382680" y="2060280"/>
              <a:ext cx="4111560" cy="14446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ufgabe von Führungskräfte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Vorbildfunk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4800" y="1274760"/>
              <a:ext cx="2866680" cy="515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Vertrauenskultu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1" name="" descr=""/>
            <p:cNvPicPr/>
            <p:nvPr/>
          </p:nvPicPr>
          <p:blipFill>
            <a:blip r:embed="rId1"/>
            <a:stretch/>
          </p:blipFill>
          <p:spPr>
            <a:xfrm>
              <a:off x="1473120" y="1474560"/>
              <a:ext cx="1397160" cy="10922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</p:pic>
      </p:grpSp>
      <p:grpSp>
        <p:nvGrpSpPr>
          <p:cNvPr id="312" name=""/>
          <p:cNvGrpSpPr/>
          <p:nvPr/>
        </p:nvGrpSpPr>
        <p:grpSpPr>
          <a:xfrm>
            <a:off x="1906200" y="4726080"/>
            <a:ext cx="4340520" cy="2055600"/>
            <a:chOff x="1906200" y="4726080"/>
            <a:chExt cx="4340520" cy="2055600"/>
          </a:xfrm>
        </p:grpSpPr>
        <p:sp>
          <p:nvSpPr>
            <p:cNvPr id="313" name=""/>
            <p:cNvSpPr/>
            <p:nvPr/>
          </p:nvSpPr>
          <p:spPr>
            <a:xfrm>
              <a:off x="2440080" y="5565600"/>
              <a:ext cx="3806640" cy="12160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flege von Disku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nd Dialo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906200" y="4726080"/>
              <a:ext cx="4176000" cy="515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Streit- und Konfliktkultu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5" name="" descr=""/>
            <p:cNvPicPr/>
            <p:nvPr/>
          </p:nvPicPr>
          <p:blipFill>
            <a:blip r:embed="rId2"/>
            <a:stretch/>
          </p:blipFill>
          <p:spPr>
            <a:xfrm>
              <a:off x="3454560" y="4979880"/>
              <a:ext cx="1396800" cy="10922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</p:pic>
      </p:grpSp>
      <p:grpSp>
        <p:nvGrpSpPr>
          <p:cNvPr id="316" name=""/>
          <p:cNvGrpSpPr/>
          <p:nvPr/>
        </p:nvGrpSpPr>
        <p:grpSpPr>
          <a:xfrm>
            <a:off x="4876920" y="1752480"/>
            <a:ext cx="4189320" cy="2743200"/>
            <a:chOff x="4876920" y="1752480"/>
            <a:chExt cx="4189320" cy="2743200"/>
          </a:xfrm>
        </p:grpSpPr>
        <p:sp>
          <p:nvSpPr>
            <p:cNvPr id="317" name=""/>
            <p:cNvSpPr/>
            <p:nvPr/>
          </p:nvSpPr>
          <p:spPr>
            <a:xfrm>
              <a:off x="4876920" y="2692440"/>
              <a:ext cx="4189320" cy="180324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uche nach Stärken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chwächen &amp;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Verbesserungsmaßnahm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952880" y="1752480"/>
              <a:ext cx="2391120" cy="515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Teamreflex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9" name="" descr=""/>
            <p:cNvPicPr/>
            <p:nvPr/>
          </p:nvPicPr>
          <p:blipFill>
            <a:blip r:embed="rId3"/>
            <a:stretch/>
          </p:blipFill>
          <p:spPr>
            <a:xfrm>
              <a:off x="5586480" y="2031840"/>
              <a:ext cx="1396800" cy="10922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</p:pic>
      </p:grpSp>
      <p:sp>
        <p:nvSpPr>
          <p:cNvPr id="320" name=""/>
          <p:cNvSpPr/>
          <p:nvPr/>
        </p:nvSpPr>
        <p:spPr>
          <a:xfrm>
            <a:off x="6409440" y="6445080"/>
            <a:ext cx="27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inmann-Rothmeier &amp; Man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685800" y="304920"/>
            <a:ext cx="463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>
              <a:lnSpc>
                <a:spcPct val="14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52680" y="9036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reit- und Konfliktkul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" y="60948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28600" y="9288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Times New Roman"/>
              </a:rPr>
              <a:t>Diskursethik und Dialogkul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08120" y="1955880"/>
            <a:ext cx="768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schiedene Sichtweisen austaus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Ursachen von Meinungsunterschieden analys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schiedene Konfliktlösungen unter Berücksichtigung 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teressen beider Konfliktpartner heraus arb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pielregeln der zukünftigen Zusammenarbeit erarb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685800" y="304920"/>
            <a:ext cx="463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>
              <a:lnSpc>
                <a:spcPct val="14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96840" y="90360"/>
            <a:ext cx="531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eamreflexion und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" y="60948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79320" y="1422360"/>
            <a:ext cx="7850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beits- und Funktionsweisen starker und schwacher T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ach- und Beziehungseb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as läuft g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as soll bewahrt wer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as soll verbessert wer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lche Maßnahmen sollen ergriffen wer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lche Spielregeln will sich die Gruppe geb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lche individuellen Commitments ergeben sic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304920"/>
            <a:ext cx="463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>
              <a:lnSpc>
                <a:spcPct val="14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87280" y="-76320"/>
            <a:ext cx="30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Materielle Anre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" y="53352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28600" y="685800"/>
            <a:ext cx="8610480" cy="2014200"/>
            <a:chOff x="228600" y="685800"/>
            <a:chExt cx="8610480" cy="2014200"/>
          </a:xfrm>
        </p:grpSpPr>
        <p:sp>
          <p:nvSpPr>
            <p:cNvPr id="334" name=""/>
            <p:cNvSpPr/>
            <p:nvPr/>
          </p:nvSpPr>
          <p:spPr>
            <a:xfrm>
              <a:off x="228600" y="685800"/>
              <a:ext cx="861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2800" spc="-1" strike="noStrike">
                  <a:solidFill>
                    <a:srgbClr val="cc0000"/>
                  </a:solidFill>
                  <a:latin typeface="Times New Roman"/>
                </a:rPr>
                <a:t>Kurzfristige materielle Anreize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76800" y="1143000"/>
              <a:ext cx="234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Prämi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Prei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Sachgeschenk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Gutsche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2150280" y="2909880"/>
            <a:ext cx="48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cc0000"/>
                </a:solidFill>
                <a:latin typeface="Times New Roman"/>
              </a:rPr>
              <a:t>Langfristige materielle Anreiz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76200" y="3556080"/>
            <a:ext cx="620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raditionelle Entlohnungsfor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förderung nach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artielle Gehaltserhö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eistungsbezogene Prämiensyst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ktienop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Qualifikationsorientierte Entlohnungsfor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fbauende Qualifik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685800" y="380880"/>
            <a:ext cx="463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>
              <a:lnSpc>
                <a:spcPct val="14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89640" y="0"/>
            <a:ext cx="340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materielle Anre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5800" y="60948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820880" y="1085760"/>
            <a:ext cx="5470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ob, Anerken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eputationsgewi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stattung mit Mitsprache- 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artizipationsre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tscheidungs- und Kontrollbefugni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sammenarbeit in sozialen Netz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365480" y="4191120"/>
            <a:ext cx="685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mpowerment der Organisationsmitglie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Übertragung ganzheitlicher Aufgabenbewältigung 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andlungsauton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685800" y="380880"/>
            <a:ext cx="463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>
              <a:lnSpc>
                <a:spcPct val="14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752120" y="-76320"/>
            <a:ext cx="552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Motivierung und Anreizgestaltu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zum Wissens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09480" y="83808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76320" y="1143000"/>
            <a:ext cx="8991360" cy="3962520"/>
            <a:chOff x="76320" y="1143000"/>
            <a:chExt cx="8991360" cy="3962520"/>
          </a:xfrm>
        </p:grpSpPr>
        <p:sp>
          <p:nvSpPr>
            <p:cNvPr id="347" name=""/>
            <p:cNvSpPr/>
            <p:nvPr/>
          </p:nvSpPr>
          <p:spPr>
            <a:xfrm>
              <a:off x="304920" y="1600200"/>
              <a:ext cx="8534160" cy="3505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6320" y="1143000"/>
              <a:ext cx="2743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Materielle Anrei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172200" y="1143000"/>
              <a:ext cx="2895480" cy="533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mmaterielle Anrei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90720" y="1676520"/>
              <a:ext cx="685800" cy="6094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543800" y="1676520"/>
              <a:ext cx="685800" cy="6094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62120" y="2590920"/>
              <a:ext cx="18288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Kompetenz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förder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29000" y="1752480"/>
              <a:ext cx="22860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Vermeidung 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Defizitmotiv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29000" y="2743200"/>
              <a:ext cx="22860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Zielsetzungen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Zielvereinbar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29000" y="3733920"/>
              <a:ext cx="228600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Rückmeld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848400" y="4495680"/>
              <a:ext cx="14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KULT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400800" y="2514600"/>
              <a:ext cx="18288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Selbst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bestimm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0" y="5181480"/>
            <a:ext cx="8991720" cy="1676520"/>
            <a:chOff x="0" y="5181480"/>
            <a:chExt cx="8991720" cy="1676520"/>
          </a:xfrm>
        </p:grpSpPr>
        <p:sp>
          <p:nvSpPr>
            <p:cNvPr id="359" name=""/>
            <p:cNvSpPr/>
            <p:nvPr/>
          </p:nvSpPr>
          <p:spPr>
            <a:xfrm>
              <a:off x="3200400" y="5181480"/>
              <a:ext cx="68580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990720" y="5181480"/>
              <a:ext cx="68580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0" y="5791320"/>
              <a:ext cx="2209680" cy="10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4920" y="5943600"/>
              <a:ext cx="18288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Wissens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repräs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14600" y="5943600"/>
              <a:ext cx="2057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Wissens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kommunik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952880" y="5943600"/>
              <a:ext cx="18288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Wissens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generier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162920" y="5943600"/>
              <a:ext cx="18288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Wissens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nutz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486400" y="5181480"/>
              <a:ext cx="68580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772400" y="5181480"/>
              <a:ext cx="68580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362320" y="1295280"/>
            <a:ext cx="4419360" cy="41911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Der Men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ls Ort 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Wan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67080" y="1066680"/>
            <a:ext cx="533520" cy="457200"/>
          </a:xfrm>
          <a:prstGeom prst="leftArrow">
            <a:avLst>
              <a:gd name="adj1" fmla="val 50000"/>
              <a:gd name="adj2" fmla="val 29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19088400">
            <a:off x="2666520" y="1752480"/>
            <a:ext cx="533520" cy="457200"/>
          </a:xfrm>
          <a:prstGeom prst="leftArrow">
            <a:avLst>
              <a:gd name="adj1" fmla="val 50000"/>
              <a:gd name="adj2" fmla="val 29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13380600">
            <a:off x="2743200" y="4648320"/>
            <a:ext cx="533520" cy="457200"/>
          </a:xfrm>
          <a:prstGeom prst="leftArrow">
            <a:avLst>
              <a:gd name="adj1" fmla="val 50000"/>
              <a:gd name="adj2" fmla="val 29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47920" y="2743200"/>
            <a:ext cx="198108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altungen 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Überzeug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505320" y="4876920"/>
            <a:ext cx="213336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ertigkeiten 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ähigk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7924200">
            <a:off x="5943240" y="4495680"/>
            <a:ext cx="533160" cy="457200"/>
          </a:xfrm>
          <a:prstGeom prst="leftArrow">
            <a:avLst>
              <a:gd name="adj1" fmla="val 50000"/>
              <a:gd name="adj2" fmla="val 291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62720" y="2743200"/>
            <a:ext cx="220968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wusstsein 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ensibil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3059400">
            <a:off x="5905800" y="1714320"/>
            <a:ext cx="533160" cy="457200"/>
          </a:xfrm>
          <a:prstGeom prst="leftArrow">
            <a:avLst>
              <a:gd name="adj1" fmla="val 50000"/>
              <a:gd name="adj2" fmla="val 291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" y="457200"/>
            <a:ext cx="463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>
              <a:lnSpc>
                <a:spcPct val="14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313360" y="0"/>
            <a:ext cx="442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Der individuelle Lernzyk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785280" y="6338880"/>
            <a:ext cx="236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Quelle: Senge (199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6261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65720" y="0"/>
            <a:ext cx="39945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ttraktivität des Th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Wissens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5120" y="919080"/>
            <a:ext cx="80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19520" y="5105520"/>
            <a:ext cx="5806800" cy="1981080"/>
            <a:chOff x="2819520" y="5105520"/>
            <a:chExt cx="5806800" cy="1981080"/>
          </a:xfrm>
        </p:grpSpPr>
        <p:sp>
          <p:nvSpPr>
            <p:cNvPr id="48" name=""/>
            <p:cNvSpPr/>
            <p:nvPr/>
          </p:nvSpPr>
          <p:spPr>
            <a:xfrm>
              <a:off x="3200400" y="66294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19520" y="5529240"/>
              <a:ext cx="4413240" cy="8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</a:t>
              </a:r>
              <a:r>
                <a:rPr b="1" lang="de-DE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600" spc="-1" strike="noStrike">
                  <a:solidFill>
                    <a:srgbClr val="000000"/>
                  </a:solidFill>
                  <a:latin typeface="Times New Roman"/>
                </a:rPr>
                <a:t>Wissen als Produktionsfakto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j0292014(p)" descr=""/>
            <p:cNvPicPr/>
            <p:nvPr/>
          </p:nvPicPr>
          <p:blipFill>
            <a:blip r:embed="rId1"/>
            <a:stretch/>
          </p:blipFill>
          <p:spPr>
            <a:xfrm>
              <a:off x="7162920" y="5105520"/>
              <a:ext cx="1463400" cy="146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"/>
          <p:cNvGrpSpPr/>
          <p:nvPr/>
        </p:nvGrpSpPr>
        <p:grpSpPr>
          <a:xfrm>
            <a:off x="1290240" y="2971800"/>
            <a:ext cx="6940800" cy="1413000"/>
            <a:chOff x="1290240" y="2971800"/>
            <a:chExt cx="6940800" cy="1413000"/>
          </a:xfrm>
        </p:grpSpPr>
        <p:sp>
          <p:nvSpPr>
            <p:cNvPr id="52" name=""/>
            <p:cNvSpPr/>
            <p:nvPr/>
          </p:nvSpPr>
          <p:spPr>
            <a:xfrm>
              <a:off x="1290240" y="3097080"/>
              <a:ext cx="52603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600" spc="-1" strike="noStrike">
                  <a:solidFill>
                    <a:srgbClr val="000000"/>
                  </a:solidFill>
                  <a:latin typeface="Times New Roman"/>
                </a:rPr>
                <a:t>Neue Informations- und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0" lang="de-DE" sz="2600" spc="-1" strike="noStrike">
                  <a:solidFill>
                    <a:srgbClr val="000000"/>
                  </a:solidFill>
                  <a:latin typeface="Times New Roman"/>
                </a:rPr>
                <a:t>Kommunikationstechnologi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BS00580_" descr=""/>
            <p:cNvPicPr/>
            <p:nvPr/>
          </p:nvPicPr>
          <p:blipFill>
            <a:blip r:embed="rId2"/>
            <a:stretch/>
          </p:blipFill>
          <p:spPr>
            <a:xfrm>
              <a:off x="6553080" y="2971800"/>
              <a:ext cx="1677960" cy="141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"/>
          <p:cNvGrpSpPr/>
          <p:nvPr/>
        </p:nvGrpSpPr>
        <p:grpSpPr>
          <a:xfrm>
            <a:off x="68040" y="1066680"/>
            <a:ext cx="6424920" cy="1463760"/>
            <a:chOff x="68040" y="1066680"/>
            <a:chExt cx="6424920" cy="1463760"/>
          </a:xfrm>
        </p:grpSpPr>
        <p:sp>
          <p:nvSpPr>
            <p:cNvPr id="55" name=""/>
            <p:cNvSpPr/>
            <p:nvPr/>
          </p:nvSpPr>
          <p:spPr>
            <a:xfrm>
              <a:off x="68040" y="1371600"/>
              <a:ext cx="506484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600" spc="-1" strike="noStrike">
                  <a:solidFill>
                    <a:srgbClr val="000000"/>
                  </a:solidFill>
                  <a:latin typeface="Times New Roman"/>
                </a:rPr>
                <a:t>Große Zunahme an Informations-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de-DE" sz="2600" spc="-1" strike="noStrike">
                  <a:solidFill>
                    <a:srgbClr val="000000"/>
                  </a:solidFill>
                  <a:latin typeface="Times New Roman"/>
                </a:rPr>
                <a:t>und Wissensbeständ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" name="PE03499_(p)" descr=""/>
            <p:cNvPicPr/>
            <p:nvPr/>
          </p:nvPicPr>
          <p:blipFill>
            <a:blip r:embed="rId3"/>
            <a:stretch/>
          </p:blipFill>
          <p:spPr>
            <a:xfrm>
              <a:off x="5029200" y="1066680"/>
              <a:ext cx="1463760" cy="1463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457200"/>
            <a:ext cx="463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>
              <a:lnSpc>
                <a:spcPct val="14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040840" y="0"/>
            <a:ext cx="497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Der organisationale Lernzyk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85280" y="6338880"/>
            <a:ext cx="236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Quelle: Senge (199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905120" y="1371600"/>
            <a:ext cx="5333760" cy="373392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Die Organ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ls 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des Handel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276720" y="1295280"/>
            <a:ext cx="259056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eitgeda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90720" y="4495680"/>
            <a:ext cx="281916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novation 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rganisationsstruk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34120" y="4495680"/>
            <a:ext cx="281916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onzepte, Metho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Werkze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685800" y="457200"/>
            <a:ext cx="463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>
              <a:lnSpc>
                <a:spcPct val="14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174120" y="0"/>
            <a:ext cx="27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Übersichtsgraf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457200" y="762120"/>
            <a:ext cx="8229600" cy="5410080"/>
            <a:chOff x="457200" y="762120"/>
            <a:chExt cx="8229600" cy="5410080"/>
          </a:xfrm>
        </p:grpSpPr>
        <p:sp>
          <p:nvSpPr>
            <p:cNvPr id="393" name=""/>
            <p:cNvSpPr/>
            <p:nvPr/>
          </p:nvSpPr>
          <p:spPr>
            <a:xfrm>
              <a:off x="457200" y="1143000"/>
              <a:ext cx="5791320" cy="685800"/>
            </a:xfrm>
            <a:custGeom>
              <a:avLst/>
              <a:gdLst>
                <a:gd name="textAreaLeft" fmla="*/ 0 w 5791320"/>
                <a:gd name="textAreaRight" fmla="*/ 5791680 w 579132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Organisationskultur - Leitbi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7200" y="4876920"/>
              <a:ext cx="5867280" cy="685800"/>
            </a:xfrm>
            <a:custGeom>
              <a:avLst/>
              <a:gdLst>
                <a:gd name="textAreaLeft" fmla="*/ 0 w 5867280"/>
                <a:gd name="textAreaRight" fmla="*/ 5867640 w 586728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Motivation - Anreizgestalt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7200" y="2971800"/>
              <a:ext cx="1905120" cy="7621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Wissens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90920" y="2362320"/>
              <a:ext cx="3124080" cy="1981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Wissensrepräs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Wissenskommunik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Wissensgenerier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Wissensnutz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715000" y="2362320"/>
              <a:ext cx="609480" cy="1981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5383800">
              <a:off x="5384520" y="3145680"/>
              <a:ext cx="14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Strategi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5400000">
              <a:off x="5524200" y="2705040"/>
              <a:ext cx="3124440" cy="1218960"/>
            </a:xfrm>
            <a:prstGeom prst="triangle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Lernen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Organis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477120" y="762120"/>
              <a:ext cx="2209680" cy="914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Individuelle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Lernzyklu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77120" y="5257800"/>
              <a:ext cx="2209680" cy="914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Organisationale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Lernzyklu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6104520" y="6521400"/>
            <a:ext cx="27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inmann-Rothmeier &amp; Man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761400" y="838080"/>
            <a:ext cx="7718400" cy="825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Ziel von Wissensmanagemen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haffung einer lernenden und wissensbasierten Organ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75400" y="2666880"/>
            <a:ext cx="2861280" cy="8254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  <a:effectLst>
            <a:outerShdw dist="63504" dir="22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ssensmanagement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örderliches Leitb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733920" y="1828800"/>
            <a:ext cx="13716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4038480"/>
            <a:ext cx="2514600" cy="12193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  <a:effectLst>
            <a:outerShdw dist="63504" dir="22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Wissens- 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Lernkul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181480" y="4038480"/>
            <a:ext cx="3581640" cy="12193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  <a:effectLst>
            <a:outerShdw dist="63504" dir="22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mmunikations- 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operationskul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2286000" y="3504960"/>
            <a:ext cx="4724280" cy="533520"/>
            <a:chOff x="2286000" y="3504960"/>
            <a:chExt cx="4724280" cy="533520"/>
          </a:xfrm>
        </p:grpSpPr>
        <p:sp>
          <p:nvSpPr>
            <p:cNvPr id="409" name=""/>
            <p:cNvSpPr/>
            <p:nvPr/>
          </p:nvSpPr>
          <p:spPr>
            <a:xfrm flipV="1">
              <a:off x="2286000" y="3504960"/>
              <a:ext cx="167652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181480" y="3505320"/>
              <a:ext cx="18288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817560" y="0"/>
            <a:ext cx="7332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Wissensmanagement und Unternehmenskul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88800" y="533520"/>
            <a:ext cx="80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942920" y="5257800"/>
            <a:ext cx="5029200" cy="1130400"/>
            <a:chOff x="1942920" y="5257800"/>
            <a:chExt cx="5029200" cy="1130400"/>
          </a:xfrm>
        </p:grpSpPr>
        <p:sp>
          <p:nvSpPr>
            <p:cNvPr id="414" name=""/>
            <p:cNvSpPr/>
            <p:nvPr/>
          </p:nvSpPr>
          <p:spPr>
            <a:xfrm>
              <a:off x="2897640" y="5562720"/>
              <a:ext cx="3132720" cy="825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Netzbasiert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Wissenskommunik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15" name=""/>
            <p:cNvCxnSpPr>
              <a:stCxn id="406" idx="4"/>
              <a:endCxn id="414" idx="1"/>
            </p:cNvCxnSpPr>
            <p:nvPr/>
          </p:nvCxnSpPr>
          <p:spPr>
            <a:xfrm>
              <a:off x="1942920" y="5257800"/>
              <a:ext cx="952920" cy="721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416" name=""/>
            <p:cNvCxnSpPr>
              <a:stCxn id="407" idx="4"/>
              <a:endCxn id="414" idx="3"/>
            </p:cNvCxnSpPr>
            <p:nvPr/>
          </p:nvCxnSpPr>
          <p:spPr>
            <a:xfrm flipH="1">
              <a:off x="6031800" y="5257800"/>
              <a:ext cx="940680" cy="721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</p:grpSp>
      <p:sp>
        <p:nvSpPr>
          <p:cNvPr id="417" name=""/>
          <p:cNvSpPr/>
          <p:nvPr/>
        </p:nvSpPr>
        <p:spPr>
          <a:xfrm>
            <a:off x="6257160" y="6369120"/>
            <a:ext cx="27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inmann-Rothmeier &amp; Man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690480" y="6261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29120" y="6253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90680" y="2671920"/>
            <a:ext cx="4419720" cy="160020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Firmenübergreife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ilotgruppe (VB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2365200" y="1468440"/>
            <a:ext cx="4340520" cy="1049400"/>
            <a:chOff x="2365200" y="1468440"/>
            <a:chExt cx="4340520" cy="1049400"/>
          </a:xfrm>
        </p:grpSpPr>
        <p:sp>
          <p:nvSpPr>
            <p:cNvPr id="422" name=""/>
            <p:cNvSpPr/>
            <p:nvPr/>
          </p:nvSpPr>
          <p:spPr>
            <a:xfrm>
              <a:off x="2365200" y="1468440"/>
              <a:ext cx="4340520" cy="4240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Times New Roman"/>
                </a:rPr>
                <a:t>Projektbegleitende Qualifizierung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 rot="16200000">
              <a:off x="2786400" y="2101680"/>
              <a:ext cx="378000" cy="453960"/>
            </a:xfrm>
            <a:prstGeom prst="rightArrow">
              <a:avLst>
                <a:gd name="adj1" fmla="val 50000"/>
                <a:gd name="adj2" fmla="val 25014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 rot="16200000">
              <a:off x="5758200" y="2101680"/>
              <a:ext cx="378000" cy="453960"/>
            </a:xfrm>
            <a:prstGeom prst="rightArrow">
              <a:avLst>
                <a:gd name="adj1" fmla="val 50000"/>
                <a:gd name="adj2" fmla="val 25014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152280" y="838080"/>
            <a:ext cx="2252880" cy="2030400"/>
            <a:chOff x="152280" y="838080"/>
            <a:chExt cx="2252880" cy="2030400"/>
          </a:xfrm>
        </p:grpSpPr>
        <p:sp>
          <p:nvSpPr>
            <p:cNvPr id="426" name=""/>
            <p:cNvSpPr/>
            <p:nvPr/>
          </p:nvSpPr>
          <p:spPr>
            <a:xfrm>
              <a:off x="1425600" y="2046240"/>
              <a:ext cx="979560" cy="822240"/>
            </a:xfrm>
            <a:custGeom>
              <a:avLst/>
              <a:gdLst/>
              <a:ahLst/>
              <a:rect l="l" t="t" r="r" b="b"/>
              <a:pathLst>
                <a:path w="617" h="518">
                  <a:moveTo>
                    <a:pt x="0" y="437"/>
                  </a:moveTo>
                  <a:lnTo>
                    <a:pt x="127" y="383"/>
                  </a:lnTo>
                  <a:lnTo>
                    <a:pt x="30" y="154"/>
                  </a:lnTo>
                  <a:lnTo>
                    <a:pt x="391" y="0"/>
                  </a:lnTo>
                  <a:lnTo>
                    <a:pt x="489" y="230"/>
                  </a:lnTo>
                  <a:lnTo>
                    <a:pt x="616" y="176"/>
                  </a:lnTo>
                  <a:lnTo>
                    <a:pt x="397" y="517"/>
                  </a:lnTo>
                  <a:lnTo>
                    <a:pt x="0" y="437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52280" y="838080"/>
              <a:ext cx="2133720" cy="12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600" spc="-1" strike="noStrike">
                  <a:solidFill>
                    <a:srgbClr val="ff0000"/>
                  </a:solidFill>
                  <a:latin typeface="Times New Roman"/>
                </a:rPr>
                <a:t>Betriebe lernen vo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600" spc="-1" strike="noStrike">
                  <a:solidFill>
                    <a:srgbClr val="ff0000"/>
                  </a:solidFill>
                  <a:latin typeface="Times New Roman"/>
                </a:rPr>
                <a:t>Betrieb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6481800" y="1162080"/>
            <a:ext cx="2665080" cy="1751040"/>
            <a:chOff x="6481800" y="1162080"/>
            <a:chExt cx="2665080" cy="1751040"/>
          </a:xfrm>
        </p:grpSpPr>
        <p:sp>
          <p:nvSpPr>
            <p:cNvPr id="429" name=""/>
            <p:cNvSpPr/>
            <p:nvPr/>
          </p:nvSpPr>
          <p:spPr>
            <a:xfrm>
              <a:off x="6481800" y="2106720"/>
              <a:ext cx="925560" cy="806400"/>
            </a:xfrm>
            <a:custGeom>
              <a:avLst/>
              <a:gdLst/>
              <a:ahLst/>
              <a:rect l="l" t="t" r="r" b="b"/>
              <a:pathLst>
                <a:path w="583" h="508">
                  <a:moveTo>
                    <a:pt x="0" y="133"/>
                  </a:moveTo>
                  <a:lnTo>
                    <a:pt x="117" y="209"/>
                  </a:lnTo>
                  <a:lnTo>
                    <a:pt x="253" y="0"/>
                  </a:lnTo>
                  <a:lnTo>
                    <a:pt x="582" y="214"/>
                  </a:lnTo>
                  <a:lnTo>
                    <a:pt x="446" y="423"/>
                  </a:lnTo>
                  <a:lnTo>
                    <a:pt x="562" y="498"/>
                  </a:lnTo>
                  <a:lnTo>
                    <a:pt x="157" y="507"/>
                  </a:lnTo>
                  <a:lnTo>
                    <a:pt x="0" y="13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879240" y="1162080"/>
              <a:ext cx="22676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Times New Roman"/>
                </a:rPr>
                <a:t>Lernen dur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Times New Roman"/>
                </a:rPr>
                <a:t>Implementier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304920" y="2971800"/>
            <a:ext cx="199044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Professionel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Mode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(MA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7280" y="3048120"/>
            <a:ext cx="221148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Wissenschaftlich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Begleit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(LMU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4320" y="4044960"/>
            <a:ext cx="8960760" cy="1743120"/>
            <a:chOff x="4320" y="4044960"/>
            <a:chExt cx="8960760" cy="1743120"/>
          </a:xfrm>
        </p:grpSpPr>
        <p:sp>
          <p:nvSpPr>
            <p:cNvPr id="434" name=""/>
            <p:cNvSpPr/>
            <p:nvPr/>
          </p:nvSpPr>
          <p:spPr>
            <a:xfrm flipV="1">
              <a:off x="1841400" y="4273200"/>
              <a:ext cx="1204920" cy="9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3060720" y="4425840"/>
              <a:ext cx="595440" cy="83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 flipV="1">
              <a:off x="6025680" y="4273200"/>
              <a:ext cx="1065240" cy="9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flipV="1">
              <a:off x="5492880" y="4425480"/>
              <a:ext cx="226800" cy="76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4500720" y="4501800"/>
              <a:ext cx="0" cy="68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6483240" y="4044960"/>
              <a:ext cx="1751040" cy="12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546120" y="4044960"/>
              <a:ext cx="1967040" cy="12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520" y="4881600"/>
              <a:ext cx="2006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320" y="5394240"/>
              <a:ext cx="1121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Betrieb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223280" y="5394240"/>
              <a:ext cx="1121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Betrieb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18920" y="5394240"/>
              <a:ext cx="1121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Betrieb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890520" y="5394240"/>
              <a:ext cx="1121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Betrieb 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185800" y="5394240"/>
              <a:ext cx="1121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Betrieb 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557400" y="5394240"/>
              <a:ext cx="1121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Betrieb 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843320" y="5394240"/>
              <a:ext cx="1121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Betrieb 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1517760" y="0"/>
            <a:ext cx="60274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Pilotprojekt zum Wissens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(VBM, MAM &amp; LM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93840" y="919080"/>
            <a:ext cx="80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524960" y="4495680"/>
            <a:ext cx="585216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Firmeneigne Wissensmanagement-Projek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685800" y="304920"/>
            <a:ext cx="463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>
              <a:lnSpc>
                <a:spcPct val="14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326680" y="90360"/>
            <a:ext cx="445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Firmeneigene Kleinprojek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60948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94200" y="984240"/>
            <a:ext cx="8267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fbau und Verbesserung der Wartungspla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ptimieren des Arbeitsablaufs Rü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now-how-Entwicklung und –Sicherung im Unterneh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ransfer von Erlerntem nach Qualifizierungsmaßnahmen 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terneh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fbau eines After-Sales-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ssen und Erfahrungen nutzen, um Fehler in der Konstru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 vermei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apazitätspro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1529280" y="-76320"/>
            <a:ext cx="60868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Unternehmensrelevanter Nutzen ein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Learning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8800" y="914400"/>
            <a:ext cx="80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5630760"/>
            <a:ext cx="2057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380880" y="1219320"/>
            <a:ext cx="8305920" cy="4952880"/>
            <a:chOff x="380880" y="1219320"/>
            <a:chExt cx="8305920" cy="4952880"/>
          </a:xfrm>
        </p:grpSpPr>
        <p:sp>
          <p:nvSpPr>
            <p:cNvPr id="460" name=""/>
            <p:cNvSpPr/>
            <p:nvPr/>
          </p:nvSpPr>
          <p:spPr>
            <a:xfrm>
              <a:off x="380880" y="1219320"/>
              <a:ext cx="24386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Unternehmen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52680" y="1219320"/>
              <a:ext cx="24386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Unternehmen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48520" y="1219320"/>
              <a:ext cx="24382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Unternehmen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80880" y="5639040"/>
              <a:ext cx="243864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Unternehmen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352680" y="5639040"/>
              <a:ext cx="243864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Unternehmen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48520" y="5639040"/>
              <a:ext cx="24382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Unternehmen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80880" y="2133720"/>
              <a:ext cx="8305920" cy="2895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200400" y="2210040"/>
              <a:ext cx="2819520" cy="1371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Lear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Commun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57200" y="3886200"/>
              <a:ext cx="2286000" cy="114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Shar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324480" y="3886200"/>
              <a:ext cx="2286000" cy="114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Distribu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200400" y="4114800"/>
              <a:ext cx="2743200" cy="609840"/>
            </a:xfrm>
            <a:prstGeom prst="leftArrow">
              <a:avLst>
                <a:gd name="adj1" fmla="val 50000"/>
                <a:gd name="adj2" fmla="val 11245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Wissensaustaus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9736400">
              <a:off x="1600200" y="3124440"/>
              <a:ext cx="1600200" cy="533160"/>
            </a:xfrm>
            <a:prstGeom prst="leftArrow">
              <a:avLst>
                <a:gd name="adj1" fmla="val 50000"/>
                <a:gd name="adj2" fmla="val 75034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12920400">
              <a:off x="6019560" y="3124080"/>
              <a:ext cx="1600200" cy="533160"/>
            </a:xfrm>
            <a:prstGeom prst="leftArrow">
              <a:avLst>
                <a:gd name="adj1" fmla="val 50000"/>
                <a:gd name="adj2" fmla="val 75034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3" name=""/>
            <p:cNvCxnSpPr>
              <a:stCxn id="460" idx="2"/>
              <a:endCxn id="467" idx="0"/>
            </p:cNvCxnSpPr>
            <p:nvPr/>
          </p:nvCxnSpPr>
          <p:spPr>
            <a:xfrm>
              <a:off x="1599840" y="1752840"/>
              <a:ext cx="3010680" cy="4579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4" name=""/>
            <p:cNvCxnSpPr>
              <a:stCxn id="461" idx="2"/>
              <a:endCxn id="467" idx="0"/>
            </p:cNvCxnSpPr>
            <p:nvPr/>
          </p:nvCxnSpPr>
          <p:spPr>
            <a:xfrm>
              <a:off x="4572000" y="1752840"/>
              <a:ext cx="38880" cy="4579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5" name=""/>
            <p:cNvCxnSpPr>
              <a:stCxn id="462" idx="2"/>
              <a:endCxn id="467" idx="0"/>
            </p:cNvCxnSpPr>
            <p:nvPr/>
          </p:nvCxnSpPr>
          <p:spPr>
            <a:xfrm flipH="1">
              <a:off x="4609440" y="1752840"/>
              <a:ext cx="2858040" cy="4579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6" name=""/>
            <p:cNvSpPr/>
            <p:nvPr/>
          </p:nvSpPr>
          <p:spPr>
            <a:xfrm>
              <a:off x="609480" y="4953240"/>
              <a:ext cx="0" cy="76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590920" y="4953240"/>
              <a:ext cx="0" cy="76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581280" y="4953240"/>
              <a:ext cx="0" cy="76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562720" y="4953240"/>
              <a:ext cx="0" cy="76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00800" y="4953240"/>
              <a:ext cx="0" cy="76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534520" y="4953240"/>
              <a:ext cx="0" cy="76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685800" y="297000"/>
            <a:ext cx="463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>
              <a:lnSpc>
                <a:spcPct val="14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560600" y="0"/>
            <a:ext cx="60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Merkmale einer Learning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bei der Pilotgrup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5800" y="99072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48200" y="1393920"/>
            <a:ext cx="833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örderung von individuellem und Kollektivem Wissenszuwac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formations- und Wissensaustausch sowie Aushandeln v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deu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ernen aus Erfahrungen und Fehl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terstützung von Prozessen der Selbststeuerung und 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örderung von Vertrauen und Gruppenident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685800" y="297000"/>
            <a:ext cx="463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>
              <a:lnSpc>
                <a:spcPct val="14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575000" y="0"/>
            <a:ext cx="602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rfahrungen aus dem Pilotprojek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10 Lessons Learned zu WM-Projek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" y="99072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5640" y="1452600"/>
            <a:ext cx="84834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n geeigneten Ansatzpunkt fi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orhandenen Leidensdruck nutzen, Veränderungsdruck erzeu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hlagkräftige Teams bilden. Das „Mentorenmodell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lein anfangen und schnell Erfolg vorwei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 Qualifizierungsmaßnahmen die Basis scha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685800" y="297000"/>
            <a:ext cx="463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>
              <a:lnSpc>
                <a:spcPct val="14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575000" y="0"/>
            <a:ext cx="602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rfahrungen aus dem Pilotprojek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10 Lessons Learned zu WM-Projek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85800" y="99072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93840" y="1376280"/>
            <a:ext cx="687708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ommunizieren und überzeu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wartungen im Vorfeld abklä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 Best Practice beginnen und von Experten ler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ffektiven Erfahrungsaustausch förd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lexibilität in der Projektkonzeption einpla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533520" y="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imes New Roman"/>
              </a:rPr>
              <a:t>Knowledge Master – </a:t>
            </a:r>
            <a:br>
              <a:rPr sz="2600"/>
            </a:br>
            <a:r>
              <a:rPr b="1" lang="de-DE" sz="2600" spc="-1" strike="noStrike">
                <a:solidFill>
                  <a:srgbClr val="000000"/>
                </a:solidFill>
                <a:latin typeface="Times New Roman"/>
              </a:rPr>
              <a:t>Ein kooperatives Weiterbildungsangebot (6 Monat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88960" y="914400"/>
            <a:ext cx="80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36240" y="1447920"/>
            <a:ext cx="3310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Siemens Qualifizieru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und Training (SQ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21840" y="1501920"/>
            <a:ext cx="4019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Ludwig-Maximilians-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Universität München (LMU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04920" y="3200400"/>
            <a:ext cx="8006040" cy="2257560"/>
            <a:chOff x="304920" y="3200400"/>
            <a:chExt cx="8006040" cy="2257560"/>
          </a:xfrm>
        </p:grpSpPr>
        <p:sp>
          <p:nvSpPr>
            <p:cNvPr id="499" name=""/>
            <p:cNvSpPr/>
            <p:nvPr/>
          </p:nvSpPr>
          <p:spPr>
            <a:xfrm>
              <a:off x="1781640" y="3479760"/>
              <a:ext cx="730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600" spc="-1" strike="noStrike">
                  <a:solidFill>
                    <a:srgbClr val="ff0000"/>
                  </a:solidFill>
                  <a:latin typeface="Times New Roman"/>
                </a:rPr>
                <a:t>Zie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30840" y="3473280"/>
              <a:ext cx="5280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Times New Roman"/>
                </a:rPr>
                <a:t>Ausbildung zum „Knowledge Master“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1605600" y="4524480"/>
              <a:ext cx="6704280" cy="933480"/>
              <a:chOff x="1605600" y="4524480"/>
              <a:chExt cx="6704280" cy="933480"/>
            </a:xfrm>
          </p:grpSpPr>
          <p:sp>
            <p:nvSpPr>
              <p:cNvPr id="502" name=""/>
              <p:cNvSpPr/>
              <p:nvPr/>
            </p:nvSpPr>
            <p:spPr>
              <a:xfrm>
                <a:off x="1605600" y="4524480"/>
                <a:ext cx="119268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600" spc="-1" strike="noStrike">
                    <a:solidFill>
                      <a:srgbClr val="ff0000"/>
                    </a:solidFill>
                    <a:latin typeface="Times New Roman"/>
                  </a:rPr>
                  <a:t>Ziel-</a:t>
                </a:r>
                <a:br>
                  <a:rPr sz="2600"/>
                </a:br>
                <a:r>
                  <a:rPr b="1" lang="de-DE" sz="2600" spc="-1" strike="noStrike">
                    <a:solidFill>
                      <a:srgbClr val="ff0000"/>
                    </a:solidFill>
                    <a:latin typeface="Times New Roman"/>
                  </a:rPr>
                  <a:t>gruppe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005640" y="4572000"/>
                <a:ext cx="530424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600" spc="-1" strike="noStrike">
                    <a:solidFill>
                      <a:srgbClr val="000000"/>
                    </a:solidFill>
                    <a:latin typeface="Times New Roman"/>
                  </a:rPr>
                  <a:t>Führungskräfte in Unternehmen und 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600" spc="-1" strike="noStrike">
                    <a:solidFill>
                      <a:srgbClr val="000000"/>
                    </a:solidFill>
                    <a:latin typeface="Times New Roman"/>
                  </a:rPr>
                  <a:t>Organisationen, aber auch Studierende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04" name="BS00544_(p)" descr=""/>
            <p:cNvPicPr/>
            <p:nvPr/>
          </p:nvPicPr>
          <p:blipFill>
            <a:blip r:embed="rId1"/>
            <a:stretch/>
          </p:blipFill>
          <p:spPr>
            <a:xfrm>
              <a:off x="304920" y="3200400"/>
              <a:ext cx="1463760" cy="1463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304720" y="0"/>
            <a:ext cx="4517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Wozu Wissensmanage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5120" y="609480"/>
            <a:ext cx="80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j0078748(p)" descr=""/>
          <p:cNvPicPr/>
          <p:nvPr/>
        </p:nvPicPr>
        <p:blipFill>
          <a:blip r:embed="rId1"/>
          <a:stretch/>
        </p:blipFill>
        <p:spPr>
          <a:xfrm>
            <a:off x="6461280" y="3870360"/>
            <a:ext cx="2606400" cy="260676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601920" y="762120"/>
            <a:ext cx="7322760" cy="5105160"/>
            <a:chOff x="601920" y="762120"/>
            <a:chExt cx="7322760" cy="5105160"/>
          </a:xfrm>
        </p:grpSpPr>
        <p:sp>
          <p:nvSpPr>
            <p:cNvPr id="61" name=""/>
            <p:cNvSpPr/>
            <p:nvPr/>
          </p:nvSpPr>
          <p:spPr>
            <a:xfrm>
              <a:off x="601920" y="762120"/>
              <a:ext cx="66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Was man durch Wissensmanagement erreichen kan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62120" y="1447920"/>
              <a:ext cx="716256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Kundennähe verbessern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69 %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62120" y="1981080"/>
              <a:ext cx="6172200" cy="381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Innovationsfähigkeit erhöhen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59 %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62120" y="2590920"/>
              <a:ext cx="617220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Produktqualität verbessern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59 %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2120" y="3200400"/>
              <a:ext cx="601956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Kosten senken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          57 %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2120" y="3809880"/>
              <a:ext cx="6019560" cy="3812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Kreativität der Mitarbeiter fördern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          57 %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62120" y="4419720"/>
              <a:ext cx="579096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Wachstum steigern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       55 %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62120" y="4952880"/>
              <a:ext cx="5562360" cy="3812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Produktivität erhöhen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   53 %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5486400"/>
              <a:ext cx="518148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Durchlaufzeiten minimieren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           45 %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3079440" y="6338880"/>
            <a:ext cx="21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Quelle: Heisig (199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533520" y="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imes New Roman"/>
              </a:rPr>
              <a:t>Zielsetzung des Curriculums Knowledge Master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8960" y="533520"/>
            <a:ext cx="80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915120" y="762120"/>
            <a:ext cx="7569000" cy="21049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Sensibilisierung für Wissensmanag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Vermittlung von Konzepten, Werkzeugen und Strategien z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Wissensmanag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Vorbereitung auf spätere eigenständige Projektarbe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76320" y="3290760"/>
            <a:ext cx="9067680" cy="2500560"/>
            <a:chOff x="76320" y="3290760"/>
            <a:chExt cx="9067680" cy="2500560"/>
          </a:xfrm>
        </p:grpSpPr>
        <p:sp>
          <p:nvSpPr>
            <p:cNvPr id="509" name=""/>
            <p:cNvSpPr/>
            <p:nvPr/>
          </p:nvSpPr>
          <p:spPr>
            <a:xfrm>
              <a:off x="76320" y="4495680"/>
              <a:ext cx="2895480" cy="1295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800000"/>
                  </a:solidFill>
                  <a:latin typeface="Times New Roman"/>
                </a:rPr>
                <a:t>Betriebswirtschafts-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800000"/>
                  </a:solidFill>
                  <a:latin typeface="Times New Roman"/>
                </a:rPr>
                <a:t>lehr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800000"/>
                  </a:solidFill>
                  <a:latin typeface="Times New Roman"/>
                </a:rPr>
                <a:t>Lehrstuhl Pico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200400" y="4495680"/>
              <a:ext cx="2895480" cy="1295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800000"/>
                  </a:solidFill>
                  <a:latin typeface="Times New Roman"/>
                </a:rPr>
                <a:t>Informatik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800000"/>
                  </a:solidFill>
                  <a:latin typeface="Times New Roman"/>
                </a:rPr>
                <a:t>Lehrstuhl Wirsing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248520" y="4495680"/>
              <a:ext cx="2895480" cy="1295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800000"/>
                  </a:solidFill>
                  <a:latin typeface="Times New Roman"/>
                </a:rPr>
                <a:t>Psychologi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800000"/>
                  </a:solidFill>
                  <a:latin typeface="Times New Roman"/>
                </a:rPr>
                <a:t>Lehrstuhl Mand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047760" y="3290760"/>
              <a:ext cx="3167640" cy="520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800000"/>
                  </a:solidFill>
                  <a:latin typeface="Times New Roman"/>
                </a:rPr>
                <a:t>Multidisziplinaritä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3" name=""/>
            <p:cNvCxnSpPr>
              <a:stCxn id="512" idx="1"/>
              <a:endCxn id="509" idx="0"/>
            </p:cNvCxnSpPr>
            <p:nvPr/>
          </p:nvCxnSpPr>
          <p:spPr>
            <a:xfrm flipH="1">
              <a:off x="1523520" y="3551040"/>
              <a:ext cx="1524960" cy="945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4" name=""/>
            <p:cNvCxnSpPr>
              <a:stCxn id="512" idx="2"/>
              <a:endCxn id="510" idx="0"/>
            </p:cNvCxnSpPr>
            <p:nvPr/>
          </p:nvCxnSpPr>
          <p:spPr>
            <a:xfrm>
              <a:off x="4632480" y="3809520"/>
              <a:ext cx="16560" cy="68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5" name=""/>
            <p:cNvCxnSpPr>
              <a:stCxn id="512" idx="3"/>
              <a:endCxn id="511" idx="0"/>
            </p:cNvCxnSpPr>
            <p:nvPr/>
          </p:nvCxnSpPr>
          <p:spPr>
            <a:xfrm>
              <a:off x="6215040" y="3551040"/>
              <a:ext cx="1481760" cy="945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"/>
          <p:cNvGrpSpPr/>
          <p:nvPr/>
        </p:nvGrpSpPr>
        <p:grpSpPr>
          <a:xfrm>
            <a:off x="76320" y="4465800"/>
            <a:ext cx="8534160" cy="1218960"/>
            <a:chOff x="76320" y="4465800"/>
            <a:chExt cx="8534160" cy="1218960"/>
          </a:xfrm>
        </p:grpSpPr>
        <p:sp>
          <p:nvSpPr>
            <p:cNvPr id="517" name=""/>
            <p:cNvSpPr/>
            <p:nvPr/>
          </p:nvSpPr>
          <p:spPr>
            <a:xfrm>
              <a:off x="76320" y="4465800"/>
              <a:ext cx="8534160" cy="1218960"/>
            </a:xfrm>
            <a:prstGeom prst="rect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727272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18000">
              <a:off x="2209320" y="477036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969696"/>
                  </a:solidFill>
                  <a:latin typeface="Times New Roman"/>
                </a:rPr>
                <a:t>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898720" y="5151600"/>
              <a:ext cx="356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Coaching und Instruk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-152280" y="2133720"/>
            <a:ext cx="2743200" cy="2806560"/>
            <a:chOff x="-152280" y="2133720"/>
            <a:chExt cx="2743200" cy="2806560"/>
          </a:xfrm>
        </p:grpSpPr>
        <p:sp>
          <p:nvSpPr>
            <p:cNvPr id="521" name=""/>
            <p:cNvSpPr/>
            <p:nvPr/>
          </p:nvSpPr>
          <p:spPr>
            <a:xfrm>
              <a:off x="76320" y="3276720"/>
              <a:ext cx="1523880" cy="1219320"/>
            </a:xfrm>
            <a:prstGeom prst="rect">
              <a:avLst/>
            </a:prstGeom>
            <a:solidFill>
              <a:srgbClr val="a7c9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Bas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Mod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28600" y="45720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4 Woch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-152280" y="2133720"/>
              <a:ext cx="106668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Kick-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o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62120" y="2133720"/>
              <a:ext cx="182880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Feedback-Worksh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28600" y="2838600"/>
              <a:ext cx="304920" cy="152280"/>
            </a:xfrm>
            <a:prstGeom prst="flowChartMerg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523880" y="2838600"/>
              <a:ext cx="304920" cy="152280"/>
            </a:xfrm>
            <a:prstGeom prst="flowChartMerg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7" name="logo1" descr=""/>
          <p:cNvPicPr/>
          <p:nvPr/>
        </p:nvPicPr>
        <p:blipFill>
          <a:blip r:embed="rId1"/>
          <a:stretch/>
        </p:blipFill>
        <p:spPr>
          <a:xfrm>
            <a:off x="380880" y="76320"/>
            <a:ext cx="762120" cy="73332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685800" y="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Das Design und das Curriculum des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Knowledge Master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1600200" y="3627360"/>
            <a:ext cx="1676520" cy="1282680"/>
            <a:chOff x="1600200" y="3627360"/>
            <a:chExt cx="1676520" cy="1282680"/>
          </a:xfrm>
        </p:grpSpPr>
        <p:sp>
          <p:nvSpPr>
            <p:cNvPr id="530" name=""/>
            <p:cNvSpPr/>
            <p:nvPr/>
          </p:nvSpPr>
          <p:spPr>
            <a:xfrm>
              <a:off x="1600200" y="3627360"/>
              <a:ext cx="1676520" cy="457200"/>
            </a:xfrm>
            <a:prstGeom prst="rect">
              <a:avLst/>
            </a:prstGeom>
            <a:solidFill>
              <a:srgbClr val="a7c9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Transfer Phase 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752480" y="45417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2 Woch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3049920" y="2103480"/>
            <a:ext cx="2817360" cy="2806560"/>
            <a:chOff x="3049920" y="2103480"/>
            <a:chExt cx="2817360" cy="2806560"/>
          </a:xfrm>
        </p:grpSpPr>
        <p:sp>
          <p:nvSpPr>
            <p:cNvPr id="533" name=""/>
            <p:cNvSpPr/>
            <p:nvPr/>
          </p:nvSpPr>
          <p:spPr>
            <a:xfrm>
              <a:off x="3200400" y="3246480"/>
              <a:ext cx="1752480" cy="1219320"/>
            </a:xfrm>
            <a:prstGeom prst="rect">
              <a:avLst/>
            </a:prstGeom>
            <a:solidFill>
              <a:srgbClr val="a7c9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Mod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Wissens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kommunik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343400" y="2103480"/>
              <a:ext cx="152388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Virtueller-Worksh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952880" y="2808360"/>
              <a:ext cx="304920" cy="152280"/>
            </a:xfrm>
            <a:prstGeom prst="flowChartMerg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49920" y="2395440"/>
              <a:ext cx="76428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Go-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76720" y="2808360"/>
              <a:ext cx="304560" cy="152280"/>
            </a:xfrm>
            <a:prstGeom prst="flowChartMerg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29000" y="45417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6 Woch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4952880" y="3627360"/>
            <a:ext cx="1676520" cy="1282680"/>
            <a:chOff x="4952880" y="3627360"/>
            <a:chExt cx="1676520" cy="1282680"/>
          </a:xfrm>
        </p:grpSpPr>
        <p:sp>
          <p:nvSpPr>
            <p:cNvPr id="540" name=""/>
            <p:cNvSpPr/>
            <p:nvPr/>
          </p:nvSpPr>
          <p:spPr>
            <a:xfrm>
              <a:off x="4952880" y="3627360"/>
              <a:ext cx="1676520" cy="457200"/>
            </a:xfrm>
            <a:prstGeom prst="rect">
              <a:avLst/>
            </a:prstGeom>
            <a:solidFill>
              <a:srgbClr val="a7c9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Transfer Phase I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81480" y="45417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5 Woch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6172200" y="2103480"/>
            <a:ext cx="2819520" cy="2806560"/>
            <a:chOff x="6172200" y="2103480"/>
            <a:chExt cx="2819520" cy="2806560"/>
          </a:xfrm>
        </p:grpSpPr>
        <p:sp>
          <p:nvSpPr>
            <p:cNvPr id="543" name=""/>
            <p:cNvSpPr/>
            <p:nvPr/>
          </p:nvSpPr>
          <p:spPr>
            <a:xfrm>
              <a:off x="6172200" y="2395440"/>
              <a:ext cx="106668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2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Go-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543800" y="2103480"/>
              <a:ext cx="144792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Abschluss-Worksh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553080" y="2808360"/>
              <a:ext cx="304920" cy="152280"/>
            </a:xfrm>
            <a:prstGeom prst="flowChartMerg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077320" y="2808360"/>
              <a:ext cx="304560" cy="152280"/>
            </a:xfrm>
            <a:prstGeom prst="flowChartMerg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705720" y="45417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5 Woch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477120" y="3246480"/>
              <a:ext cx="1676160" cy="1219320"/>
            </a:xfrm>
            <a:prstGeom prst="rect">
              <a:avLst/>
            </a:prstGeom>
            <a:solidFill>
              <a:srgbClr val="a7c9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Mod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7848720" y="3627000"/>
            <a:ext cx="1218960" cy="2057760"/>
            <a:chOff x="7848720" y="3627000"/>
            <a:chExt cx="1218960" cy="2057760"/>
          </a:xfrm>
        </p:grpSpPr>
        <p:sp>
          <p:nvSpPr>
            <p:cNvPr id="550" name=""/>
            <p:cNvSpPr/>
            <p:nvPr/>
          </p:nvSpPr>
          <p:spPr>
            <a:xfrm>
              <a:off x="7848720" y="4465800"/>
              <a:ext cx="1143000" cy="121896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LMU &amp; SQ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Mas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 rot="10800000">
              <a:off x="8153280" y="3627000"/>
              <a:ext cx="914400" cy="1143000"/>
            </a:xfrm>
            <a:custGeom>
              <a:avLst/>
              <a:gdLst>
                <a:gd name="textAreaLeft" fmla="*/ 305280 w 914400"/>
                <a:gd name="textAreaRight" fmla="*/ 783720 w 914400"/>
                <a:gd name="textAreaTop" fmla="*/ 658440 h 1143000"/>
                <a:gd name="textAreaBottom" fmla="*/ 97920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7c9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Zertifik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0" y="1523880"/>
            <a:ext cx="9144000" cy="57960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100000">
                <a:srgbClr val="ffcc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nowledge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76320" y="5410080"/>
            <a:ext cx="8991000" cy="974520"/>
            <a:chOff x="76320" y="5410080"/>
            <a:chExt cx="8991000" cy="974520"/>
          </a:xfrm>
        </p:grpSpPr>
        <p:sp>
          <p:nvSpPr>
            <p:cNvPr id="554" name=""/>
            <p:cNvSpPr/>
            <p:nvPr/>
          </p:nvSpPr>
          <p:spPr>
            <a:xfrm>
              <a:off x="76320" y="5410080"/>
              <a:ext cx="8991000" cy="974520"/>
            </a:xfrm>
            <a:prstGeom prst="rightArrow">
              <a:avLst>
                <a:gd name="adj1" fmla="val 50000"/>
                <a:gd name="adj2" fmla="val 194858"/>
              </a:avLst>
            </a:prstGeom>
            <a:gradFill rotWithShape="0">
              <a:gsLst>
                <a:gs pos="0">
                  <a:srgbClr val="757546"/>
                </a:gs>
                <a:gs pos="100000">
                  <a:srgbClr val="ff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44440" y="5679720"/>
              <a:ext cx="2524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Fallorientier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70080" y="5655240"/>
              <a:ext cx="2520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Community-Bezu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7" name="lmulogo" descr=""/>
          <p:cNvPicPr/>
          <p:nvPr/>
        </p:nvPicPr>
        <p:blipFill>
          <a:blip r:embed="rId2"/>
          <a:stretch/>
        </p:blipFill>
        <p:spPr>
          <a:xfrm>
            <a:off x="8228160" y="152280"/>
            <a:ext cx="915840" cy="46368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609480" y="11430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457200" y="-76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Virtuelle Learning Communities: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Beispiel: Le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2867040" y="2406600"/>
            <a:ext cx="2819520" cy="2438280"/>
            <a:chOff x="2867040" y="2406600"/>
            <a:chExt cx="2819520" cy="2438280"/>
          </a:xfrm>
        </p:grpSpPr>
        <p:sp>
          <p:nvSpPr>
            <p:cNvPr id="561" name=""/>
            <p:cNvSpPr/>
            <p:nvPr/>
          </p:nvSpPr>
          <p:spPr>
            <a:xfrm flipH="1">
              <a:off x="2867040" y="2406600"/>
              <a:ext cx="8380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4847760" y="4082760"/>
              <a:ext cx="83844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867040" y="4082760"/>
              <a:ext cx="8380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848120" y="2406600"/>
              <a:ext cx="83844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867040" y="3168360"/>
              <a:ext cx="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686560" y="3168360"/>
              <a:ext cx="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705120" y="24066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705120" y="48448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554640" y="3182760"/>
              <a:ext cx="1364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000000"/>
                  </a:solidFill>
                  <a:latin typeface="Times New Roman"/>
                </a:rPr>
                <a:t>LeC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705120" y="25588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4695840" y="4006440"/>
              <a:ext cx="8380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5533920" y="2414520"/>
            <a:ext cx="2460960" cy="905040"/>
            <a:chOff x="5533920" y="2414520"/>
            <a:chExt cx="2460960" cy="905040"/>
          </a:xfrm>
        </p:grpSpPr>
        <p:pic>
          <p:nvPicPr>
            <p:cNvPr id="573" name="BD21294_" descr=""/>
            <p:cNvPicPr/>
            <p:nvPr/>
          </p:nvPicPr>
          <p:blipFill>
            <a:blip r:embed="rId1"/>
            <a:stretch/>
          </p:blipFill>
          <p:spPr>
            <a:xfrm>
              <a:off x="5533920" y="3016440"/>
              <a:ext cx="303480" cy="30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 flipV="1">
              <a:off x="5838840" y="2787840"/>
              <a:ext cx="6858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370920" y="2414520"/>
              <a:ext cx="162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a50021"/>
                  </a:solidFill>
                  <a:latin typeface="Times New Roman"/>
                </a:rPr>
                <a:t>Kreativitä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5533920" y="3252960"/>
            <a:ext cx="3249000" cy="1526400"/>
            <a:chOff x="5533920" y="3252960"/>
            <a:chExt cx="3249000" cy="1526400"/>
          </a:xfrm>
        </p:grpSpPr>
        <p:pic>
          <p:nvPicPr>
            <p:cNvPr id="577" name="BD21294_" descr=""/>
            <p:cNvPicPr/>
            <p:nvPr/>
          </p:nvPicPr>
          <p:blipFill>
            <a:blip r:embed="rId2"/>
            <a:stretch/>
          </p:blipFill>
          <p:spPr>
            <a:xfrm>
              <a:off x="5533920" y="3930840"/>
              <a:ext cx="303480" cy="30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 flipV="1">
              <a:off x="5838840" y="3549600"/>
              <a:ext cx="8380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838840" y="408312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78640" y="3252960"/>
              <a:ext cx="11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a50021"/>
                  </a:solidFill>
                  <a:latin typeface="Times New Roman"/>
                </a:rPr>
                <a:t>Lern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448680" y="4319640"/>
              <a:ext cx="233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a50021"/>
                  </a:solidFill>
                  <a:latin typeface="Times New Roman"/>
                </a:rPr>
                <a:t>Kommunik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368360" y="4694400"/>
            <a:ext cx="2487600" cy="1151640"/>
            <a:chOff x="1368360" y="4694400"/>
            <a:chExt cx="2487600" cy="1151640"/>
          </a:xfrm>
        </p:grpSpPr>
        <p:pic>
          <p:nvPicPr>
            <p:cNvPr id="583" name="BD21294_" descr=""/>
            <p:cNvPicPr/>
            <p:nvPr/>
          </p:nvPicPr>
          <p:blipFill>
            <a:blip r:embed="rId3"/>
            <a:stretch/>
          </p:blipFill>
          <p:spPr>
            <a:xfrm>
              <a:off x="3552840" y="4694400"/>
              <a:ext cx="303120" cy="30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 flipH="1">
              <a:off x="3019320" y="4921200"/>
              <a:ext cx="6098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368360" y="5386320"/>
              <a:ext cx="158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a50021"/>
                  </a:solidFill>
                  <a:latin typeface="Times New Roman"/>
                </a:rPr>
                <a:t>Wachst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1677960" y="3930480"/>
            <a:ext cx="1368360" cy="924840"/>
            <a:chOff x="1677960" y="3930480"/>
            <a:chExt cx="1368360" cy="924840"/>
          </a:xfrm>
        </p:grpSpPr>
        <p:pic>
          <p:nvPicPr>
            <p:cNvPr id="587" name="BD21294_" descr=""/>
            <p:cNvPicPr/>
            <p:nvPr/>
          </p:nvPicPr>
          <p:blipFill>
            <a:blip r:embed="rId4"/>
            <a:stretch/>
          </p:blipFill>
          <p:spPr>
            <a:xfrm>
              <a:off x="2743200" y="3930480"/>
              <a:ext cx="303120" cy="30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"/>
            <p:cNvSpPr/>
            <p:nvPr/>
          </p:nvSpPr>
          <p:spPr>
            <a:xfrm>
              <a:off x="1677960" y="439560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a50021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2133360" y="415908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306720" y="2262240"/>
            <a:ext cx="2739600" cy="1057320"/>
            <a:chOff x="306720" y="2262240"/>
            <a:chExt cx="2739600" cy="1057320"/>
          </a:xfrm>
        </p:grpSpPr>
        <p:pic>
          <p:nvPicPr>
            <p:cNvPr id="591" name="BD21294_" descr=""/>
            <p:cNvPicPr/>
            <p:nvPr/>
          </p:nvPicPr>
          <p:blipFill>
            <a:blip r:embed="rId5"/>
            <a:stretch/>
          </p:blipFill>
          <p:spPr>
            <a:xfrm>
              <a:off x="2743200" y="3016440"/>
              <a:ext cx="303120" cy="30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306720" y="2262240"/>
              <a:ext cx="170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a50021"/>
                  </a:solidFill>
                  <a:latin typeface="Times New Roman"/>
                </a:rPr>
                <a:t>Vernetz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 flipV="1">
              <a:off x="2209680" y="2634840"/>
              <a:ext cx="5335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1370520" y="1271520"/>
            <a:ext cx="3350520" cy="1285920"/>
            <a:chOff x="1370520" y="1271520"/>
            <a:chExt cx="3350520" cy="1285920"/>
          </a:xfrm>
        </p:grpSpPr>
        <p:sp>
          <p:nvSpPr>
            <p:cNvPr id="595" name=""/>
            <p:cNvSpPr/>
            <p:nvPr/>
          </p:nvSpPr>
          <p:spPr>
            <a:xfrm>
              <a:off x="1370520" y="1271520"/>
              <a:ext cx="335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a50021"/>
                  </a:solidFill>
                  <a:latin typeface="Times New Roman"/>
                </a:rPr>
                <a:t>Eigenverantwortlichke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6" name="BD21294_" descr=""/>
            <p:cNvPicPr/>
            <p:nvPr/>
          </p:nvPicPr>
          <p:blipFill>
            <a:blip r:embed="rId6"/>
            <a:stretch/>
          </p:blipFill>
          <p:spPr>
            <a:xfrm>
              <a:off x="3506760" y="2254320"/>
              <a:ext cx="303120" cy="30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 flipH="1" flipV="1">
              <a:off x="3047760" y="1720800"/>
              <a:ext cx="6094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2074320" y="6064200"/>
            <a:ext cx="6921360" cy="489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990033"/>
                </a:solidFill>
                <a:latin typeface="Times New Roman"/>
              </a:rPr>
              <a:t>Eine Plattform für aktives Wissensmanage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57200" y="99072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457200" y="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LeCO: Learning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738000" y="3505320"/>
            <a:ext cx="6879600" cy="2135160"/>
            <a:chOff x="738000" y="3505320"/>
            <a:chExt cx="6879600" cy="2135160"/>
          </a:xfrm>
        </p:grpSpPr>
        <p:sp>
          <p:nvSpPr>
            <p:cNvPr id="602" name=""/>
            <p:cNvSpPr/>
            <p:nvPr/>
          </p:nvSpPr>
          <p:spPr>
            <a:xfrm>
              <a:off x="738000" y="3505320"/>
              <a:ext cx="450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a50021"/>
                  </a:solidFill>
                  <a:latin typeface="Times New Roman"/>
                </a:rPr>
                <a:t>2. LeCo als Informationsspeich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1271880" y="4138560"/>
              <a:ext cx="6345720" cy="1501920"/>
              <a:chOff x="1271880" y="4138560"/>
              <a:chExt cx="6345720" cy="1501920"/>
            </a:xfrm>
          </p:grpSpPr>
          <p:grpSp>
            <p:nvGrpSpPr>
              <p:cNvPr id="604" name=""/>
              <p:cNvGrpSpPr/>
              <p:nvPr/>
            </p:nvGrpSpPr>
            <p:grpSpPr>
              <a:xfrm>
                <a:off x="1271880" y="4138560"/>
                <a:ext cx="6345720" cy="429120"/>
                <a:chOff x="1271880" y="4138560"/>
                <a:chExt cx="6345720" cy="429120"/>
              </a:xfrm>
            </p:grpSpPr>
            <p:pic>
              <p:nvPicPr>
                <p:cNvPr id="605" name="BD21294_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271880" y="4257360"/>
                  <a:ext cx="22860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6" name=""/>
                <p:cNvSpPr/>
                <p:nvPr/>
              </p:nvSpPr>
              <p:spPr>
                <a:xfrm>
                  <a:off x="1578600" y="4138560"/>
                  <a:ext cx="603900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200" spc="-1" strike="noStrike">
                      <a:solidFill>
                        <a:srgbClr val="000000"/>
                      </a:solidFill>
                      <a:latin typeface="Times New Roman"/>
                    </a:rPr>
                    <a:t>Für persönlich gemachte Erfahrungen des Einzelnen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7" name=""/>
              <p:cNvGrpSpPr/>
              <p:nvPr/>
            </p:nvGrpSpPr>
            <p:grpSpPr>
              <a:xfrm>
                <a:off x="1271880" y="4677840"/>
                <a:ext cx="2877840" cy="429120"/>
                <a:chOff x="1271880" y="4677840"/>
                <a:chExt cx="2877840" cy="429120"/>
              </a:xfrm>
            </p:grpSpPr>
            <p:pic>
              <p:nvPicPr>
                <p:cNvPr id="608" name="BD21294_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271880" y="4796640"/>
                  <a:ext cx="22860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9" name=""/>
                <p:cNvSpPr/>
                <p:nvPr/>
              </p:nvSpPr>
              <p:spPr>
                <a:xfrm>
                  <a:off x="1577880" y="4677840"/>
                  <a:ext cx="25718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200" spc="-1" strike="noStrike">
                      <a:solidFill>
                        <a:srgbClr val="000000"/>
                      </a:solidFill>
                      <a:latin typeface="Times New Roman"/>
                    </a:rPr>
                    <a:t>Sammlung von Ideen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"/>
              <p:cNvGrpSpPr/>
              <p:nvPr/>
            </p:nvGrpSpPr>
            <p:grpSpPr>
              <a:xfrm>
                <a:off x="1271880" y="5211360"/>
                <a:ext cx="6226200" cy="429120"/>
                <a:chOff x="1271880" y="5211360"/>
                <a:chExt cx="6226200" cy="429120"/>
              </a:xfrm>
            </p:grpSpPr>
            <p:pic>
              <p:nvPicPr>
                <p:cNvPr id="611" name="BD21294_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271880" y="5330160"/>
                  <a:ext cx="22860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2" name=""/>
                <p:cNvSpPr/>
                <p:nvPr/>
              </p:nvSpPr>
              <p:spPr>
                <a:xfrm>
                  <a:off x="1579320" y="5211360"/>
                  <a:ext cx="5918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200" spc="-1" strike="noStrike">
                      <a:solidFill>
                        <a:srgbClr val="000000"/>
                      </a:solidFill>
                      <a:latin typeface="Times New Roman"/>
                    </a:rPr>
                    <a:t>Darstellung spezieller Kompetenzen der Mitgliede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13" name=""/>
          <p:cNvGrpSpPr/>
          <p:nvPr/>
        </p:nvGrpSpPr>
        <p:grpSpPr>
          <a:xfrm>
            <a:off x="740160" y="838080"/>
            <a:ext cx="5652000" cy="2211840"/>
            <a:chOff x="740160" y="838080"/>
            <a:chExt cx="5652000" cy="2211840"/>
          </a:xfrm>
        </p:grpSpPr>
        <p:sp>
          <p:nvSpPr>
            <p:cNvPr id="614" name=""/>
            <p:cNvSpPr/>
            <p:nvPr/>
          </p:nvSpPr>
          <p:spPr>
            <a:xfrm>
              <a:off x="740160" y="838080"/>
              <a:ext cx="40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a50021"/>
                  </a:solidFill>
                  <a:latin typeface="Times New Roman"/>
                </a:rPr>
                <a:t>1. LeCo als Diskussionsfor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1271880" y="1447560"/>
              <a:ext cx="5120280" cy="1602360"/>
              <a:chOff x="1271880" y="1447560"/>
              <a:chExt cx="5120280" cy="1602360"/>
            </a:xfrm>
          </p:grpSpPr>
          <p:grpSp>
            <p:nvGrpSpPr>
              <p:cNvPr id="616" name=""/>
              <p:cNvGrpSpPr/>
              <p:nvPr/>
            </p:nvGrpSpPr>
            <p:grpSpPr>
              <a:xfrm>
                <a:off x="1271880" y="1447560"/>
                <a:ext cx="5120280" cy="429120"/>
                <a:chOff x="1271880" y="1447560"/>
                <a:chExt cx="5120280" cy="429120"/>
              </a:xfrm>
            </p:grpSpPr>
            <p:pic>
              <p:nvPicPr>
                <p:cNvPr id="617" name="BD21294_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271880" y="1566720"/>
                  <a:ext cx="228600" cy="22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8" name=""/>
                <p:cNvSpPr/>
                <p:nvPr/>
              </p:nvSpPr>
              <p:spPr>
                <a:xfrm>
                  <a:off x="1576800" y="1447560"/>
                  <a:ext cx="48153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200" spc="-1" strike="noStrike">
                      <a:solidFill>
                        <a:srgbClr val="000000"/>
                      </a:solidFill>
                      <a:latin typeface="Times New Roman"/>
                    </a:rPr>
                    <a:t>Diskussion über persönliche Erfahrungen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9" name=""/>
              <p:cNvGrpSpPr/>
              <p:nvPr/>
            </p:nvGrpSpPr>
            <p:grpSpPr>
              <a:xfrm>
                <a:off x="1271880" y="2011320"/>
                <a:ext cx="3030480" cy="429120"/>
                <a:chOff x="1271880" y="2011320"/>
                <a:chExt cx="3030480" cy="429120"/>
              </a:xfrm>
            </p:grpSpPr>
            <p:pic>
              <p:nvPicPr>
                <p:cNvPr id="620" name="BD21294_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71880" y="2130480"/>
                  <a:ext cx="228600" cy="22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1" name=""/>
                <p:cNvSpPr/>
                <p:nvPr/>
              </p:nvSpPr>
              <p:spPr>
                <a:xfrm>
                  <a:off x="1576440" y="2011320"/>
                  <a:ext cx="27259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200" spc="-1" strike="noStrike">
                      <a:solidFill>
                        <a:srgbClr val="000000"/>
                      </a:solidFill>
                      <a:latin typeface="Times New Roman"/>
                    </a:rPr>
                    <a:t>Austausch von Wissen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1271880" y="2620800"/>
                <a:ext cx="4537800" cy="429120"/>
                <a:chOff x="1271880" y="2620800"/>
                <a:chExt cx="4537800" cy="429120"/>
              </a:xfrm>
            </p:grpSpPr>
            <p:pic>
              <p:nvPicPr>
                <p:cNvPr id="623" name="BD21294_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271880" y="2739960"/>
                  <a:ext cx="228600" cy="22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4" name=""/>
                <p:cNvSpPr/>
                <p:nvPr/>
              </p:nvSpPr>
              <p:spPr>
                <a:xfrm>
                  <a:off x="1576800" y="2620800"/>
                  <a:ext cx="42328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200" spc="-1" strike="noStrike">
                      <a:solidFill>
                        <a:srgbClr val="000000"/>
                      </a:solidFill>
                      <a:latin typeface="Times New Roman"/>
                    </a:rPr>
                    <a:t>Kontakt zu den anderen Mitgliedern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5" name=""/>
          <p:cNvSpPr/>
          <p:nvPr/>
        </p:nvSpPr>
        <p:spPr>
          <a:xfrm>
            <a:off x="457200" y="60948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533520" y="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Die zentralen Aspekte von Learning Comm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676520" y="990720"/>
            <a:ext cx="5867280" cy="4038480"/>
            <a:chOff x="1676520" y="990720"/>
            <a:chExt cx="5867280" cy="4038480"/>
          </a:xfrm>
        </p:grpSpPr>
        <p:sp>
          <p:nvSpPr>
            <p:cNvPr id="628" name=""/>
            <p:cNvSpPr/>
            <p:nvPr/>
          </p:nvSpPr>
          <p:spPr>
            <a:xfrm>
              <a:off x="1676520" y="990720"/>
              <a:ext cx="5867280" cy="4038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275640" y="990720"/>
              <a:ext cx="27882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600" spc="-1" strike="noStrike">
                  <a:solidFill>
                    <a:srgbClr val="000000"/>
                  </a:solidFill>
                  <a:latin typeface="Times New Roman"/>
                </a:rPr>
                <a:t>Informelle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600" spc="-1" strike="noStrike">
                  <a:solidFill>
                    <a:srgbClr val="000000"/>
                  </a:solidFill>
                  <a:latin typeface="Times New Roman"/>
                </a:rPr>
                <a:t>Personennetzwer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581280" y="2438280"/>
              <a:ext cx="1981440" cy="1067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„</a:t>
              </a: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Vorreiter“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Ker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533520" y="3657600"/>
            <a:ext cx="7619760" cy="2666880"/>
            <a:chOff x="533520" y="3657600"/>
            <a:chExt cx="7619760" cy="2666880"/>
          </a:xfrm>
        </p:grpSpPr>
        <p:sp>
          <p:nvSpPr>
            <p:cNvPr id="632" name=""/>
            <p:cNvSpPr/>
            <p:nvPr/>
          </p:nvSpPr>
          <p:spPr>
            <a:xfrm>
              <a:off x="3505320" y="3886200"/>
              <a:ext cx="2133360" cy="9907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Gemeinsam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Identitä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als Grupp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477120" y="3657600"/>
              <a:ext cx="1676160" cy="762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geteil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Ressource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33520" y="3657600"/>
              <a:ext cx="2514600" cy="762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Eigenverantwortung/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Selbstorganisa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514600" y="5029200"/>
              <a:ext cx="4114800" cy="5335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Gemeinsame Verständigungsbasi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905120" y="5867280"/>
              <a:ext cx="5562360" cy="457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Gemeinsame Interessen / Problemstellunge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609480" y="1143000"/>
            <a:ext cx="2590920" cy="2057400"/>
            <a:chOff x="609480" y="1143000"/>
            <a:chExt cx="2590920" cy="2057400"/>
          </a:xfrm>
        </p:grpSpPr>
        <p:sp>
          <p:nvSpPr>
            <p:cNvPr id="638" name=""/>
            <p:cNvSpPr/>
            <p:nvPr/>
          </p:nvSpPr>
          <p:spPr>
            <a:xfrm>
              <a:off x="609480" y="1143000"/>
              <a:ext cx="2590920" cy="685800"/>
            </a:xfrm>
            <a:custGeom>
              <a:avLst/>
              <a:gdLst>
                <a:gd name="textAreaLeft" fmla="*/ 0 w 2590920"/>
                <a:gd name="textAreaRight" fmla="*/ 2591280 w 259092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Kommunikation/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Koopera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09480" y="2514600"/>
              <a:ext cx="1752840" cy="685800"/>
            </a:xfrm>
            <a:custGeom>
              <a:avLst/>
              <a:gdLst>
                <a:gd name="textAreaLeft" fmla="*/ 0 w 1752840"/>
                <a:gd name="textAreaRight" fmla="*/ 1753200 w 175284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Erfahrungs-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austausc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6172200" y="1143000"/>
            <a:ext cx="2819520" cy="1905120"/>
            <a:chOff x="6172200" y="1143000"/>
            <a:chExt cx="2819520" cy="1905120"/>
          </a:xfrm>
        </p:grpSpPr>
        <p:sp>
          <p:nvSpPr>
            <p:cNvPr id="641" name=""/>
            <p:cNvSpPr/>
            <p:nvPr/>
          </p:nvSpPr>
          <p:spPr>
            <a:xfrm flipH="1">
              <a:off x="6172200" y="1143000"/>
              <a:ext cx="2209680" cy="685800"/>
            </a:xfrm>
            <a:custGeom>
              <a:avLst/>
              <a:gdLst>
                <a:gd name="textAreaLeft" fmla="*/ 360 w 2209680"/>
                <a:gd name="textAreaRight" fmla="*/ 2210400 w 220968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Wissens-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schaffung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6553080" y="2362320"/>
              <a:ext cx="2438640" cy="685800"/>
            </a:xfrm>
            <a:custGeom>
              <a:avLst/>
              <a:gdLst>
                <a:gd name="textAreaLeft" fmla="*/ 0 w 2438640"/>
                <a:gd name="textAreaRight" fmla="*/ 2438640 w 243864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Wechselseitig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Lerne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57200" y="60948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619920" y="-50760"/>
            <a:ext cx="79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Kritische Erfolgsfaktoren für Wissens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57200" y="5335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276720" y="2590920"/>
            <a:ext cx="2438280" cy="21333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on Wissen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990720" y="914400"/>
            <a:ext cx="6933960" cy="5486400"/>
          </a:xfrm>
          <a:prstGeom prst="hexagon">
            <a:avLst>
              <a:gd name="adj" fmla="val 31596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743200" y="91440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5105160" y="914400"/>
            <a:ext cx="10666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5715000" y="36576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2743200" y="4648320"/>
            <a:ext cx="129528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5028840" y="4648320"/>
            <a:ext cx="11430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990720" y="36576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525280" y="2286000"/>
            <a:ext cx="1863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Motivation &amp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Qualifik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der Mitarbei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486400" y="4038480"/>
            <a:ext cx="1868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Unterstütz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durch d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Geschäfts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leit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048120" y="5227560"/>
            <a:ext cx="297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Integration v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Wissensproze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in Geschäftsprozes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914400" y="3581280"/>
            <a:ext cx="3124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Neue Informa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tions- &amp;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Kommuni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kations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technologi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439720" y="220968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971800" y="129528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Organisations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kult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1916280" y="-50760"/>
            <a:ext cx="585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Leitgrafik für die Forschungsgrup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Wissensmanagement &amp; Innovation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57200" y="9144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47600" y="6126120"/>
            <a:ext cx="420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edingungsgefüge zwisc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Wissensmanagement und Inno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00960" y="1168200"/>
            <a:ext cx="8690760" cy="5283360"/>
            <a:chOff x="300960" y="1168200"/>
            <a:chExt cx="8690760" cy="5283360"/>
          </a:xfrm>
        </p:grpSpPr>
        <p:sp>
          <p:nvSpPr>
            <p:cNvPr id="664" name=""/>
            <p:cNvSpPr/>
            <p:nvPr/>
          </p:nvSpPr>
          <p:spPr>
            <a:xfrm rot="21597000">
              <a:off x="302760" y="1219320"/>
              <a:ext cx="1295640" cy="4572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16230600">
              <a:off x="-1315800" y="3096720"/>
              <a:ext cx="4615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Times New Roman"/>
                </a:rPr>
                <a:t>Äußere Bedingunge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(Organisation, Markt, Gesellschaft etc.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21597000">
              <a:off x="2361960" y="1217520"/>
              <a:ext cx="3960720" cy="4573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362320" y="1600200"/>
              <a:ext cx="39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578760" y="1219320"/>
              <a:ext cx="137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Individu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819520" y="121932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16127400">
              <a:off x="2129760" y="3254400"/>
              <a:ext cx="101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Techni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5386200">
              <a:off x="5376240" y="3168360"/>
              <a:ext cx="149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Organis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867280" y="121932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777840" y="5410080"/>
              <a:ext cx="94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Grup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5410080"/>
              <a:ext cx="39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399120" y="1752480"/>
              <a:ext cx="1709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Wissens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-repräs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-nutz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124080" y="3048120"/>
              <a:ext cx="25146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WISSENS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304440" y="4251240"/>
              <a:ext cx="1881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-kommunik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-generier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162920" y="1219320"/>
              <a:ext cx="1828800" cy="46479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Inven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Exploi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391520" y="3352680"/>
              <a:ext cx="144756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Innov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676520" y="2362320"/>
              <a:ext cx="685800" cy="409320"/>
            </a:xfrm>
            <a:prstGeom prst="rightArrow">
              <a:avLst>
                <a:gd name="adj1" fmla="val 50000"/>
                <a:gd name="adj2" fmla="val 418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676520" y="3933720"/>
              <a:ext cx="685800" cy="409680"/>
            </a:xfrm>
            <a:prstGeom prst="rightArrow">
              <a:avLst>
                <a:gd name="adj1" fmla="val 50000"/>
                <a:gd name="adj2" fmla="val 4185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400800" y="2486160"/>
              <a:ext cx="685800" cy="409320"/>
            </a:xfrm>
            <a:prstGeom prst="rightArrow">
              <a:avLst>
                <a:gd name="adj1" fmla="val 50000"/>
                <a:gd name="adj2" fmla="val 418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00800" y="3019320"/>
              <a:ext cx="685800" cy="409680"/>
            </a:xfrm>
            <a:prstGeom prst="rightArrow">
              <a:avLst>
                <a:gd name="adj1" fmla="val 50000"/>
                <a:gd name="adj2" fmla="val 4185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400800" y="3629160"/>
              <a:ext cx="685800" cy="409320"/>
            </a:xfrm>
            <a:prstGeom prst="rightArrow">
              <a:avLst>
                <a:gd name="adj1" fmla="val 50000"/>
                <a:gd name="adj2" fmla="val 418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400800" y="4238640"/>
              <a:ext cx="685800" cy="409680"/>
            </a:xfrm>
            <a:prstGeom prst="rightArrow">
              <a:avLst>
                <a:gd name="adj1" fmla="val 50000"/>
                <a:gd name="adj2" fmla="val 4185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10995000">
              <a:off x="4025880" y="5930640"/>
              <a:ext cx="4500720" cy="393480"/>
            </a:xfrm>
            <a:custGeom>
              <a:avLst/>
              <a:gdLst>
                <a:gd name="textAreaLeft" fmla="*/ 787680 w 4500720"/>
                <a:gd name="textAreaRight" fmla="*/ 3263040 w 4500720"/>
                <a:gd name="textAreaTop" fmla="*/ 52560 h 393480"/>
                <a:gd name="textAreaBottom" fmla="*/ 340920 h 39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" name=""/>
          <p:cNvSpPr/>
          <p:nvPr/>
        </p:nvSpPr>
        <p:spPr>
          <a:xfrm>
            <a:off x="6163920" y="6491160"/>
            <a:ext cx="30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inmann-Rothmeier &amp; Man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1151640" y="1295280"/>
            <a:ext cx="660276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000000"/>
                </a:solidFill>
                <a:latin typeface="Times New Roman"/>
              </a:rPr>
              <a:t>Vielen Dank für Ih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000000"/>
                </a:solidFill>
                <a:latin typeface="Times New Roman"/>
              </a:rPr>
              <a:t>Aufmerksamkeit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-Mail: mandl@edupsy.uni-muenchen.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ttp://lsmandl.emp.paed.uni-muenchen.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0" y="907920"/>
            <a:ext cx="9067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einmann-Rothmeier, G., Mandl, H., Erlach, C. &amp; Neubauer, A. (in Druck). 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Wissensmanagement. lernen.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Weinheim: Belt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Mandl, H. &amp; Reinmann-Rothmeier, G. (Hrsg.). (200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Wissensmanagement. Informationszuwachs-Wissensschwund? Die strategische Bedeutung des Wissensmanagements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. München: Oldenbour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einmann-Rothmeier, G. &amp; Mandl, H. (2000). 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Individuelles Wissensmanagement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. Bern: Hu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einmann-Rothmeier, G. &amp; Mandl, H. (Hrsg.). (2001).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Virtuelle Seminare in Hochschule und Weiterbildung.Drei Beispiele aus der Praxis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. Bern: Hu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584520" y="144360"/>
            <a:ext cx="170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Times New Roman"/>
              </a:rPr>
              <a:t>Literatu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 flipV="1">
            <a:off x="1822320" y="2069640"/>
            <a:ext cx="4876920" cy="22100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15360" y="47520"/>
            <a:ext cx="445320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imes New Roman"/>
              </a:rPr>
              <a:t>Daten- Information – Wissen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50640" y="2886120"/>
            <a:ext cx="2040840" cy="5155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22640" y="1819440"/>
            <a:ext cx="1267920" cy="5155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480" y="3979800"/>
            <a:ext cx="1089720" cy="5155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Da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7320" y="2819520"/>
            <a:ext cx="2466000" cy="69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innvoll kombinie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Folge von Zei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47600" y="1727280"/>
            <a:ext cx="2510280" cy="69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Daten in einem Prob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lemzusammenh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20320" y="838080"/>
            <a:ext cx="3194280" cy="69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nformation in Verbin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mit persönlicher Erfah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3680" y="4794120"/>
            <a:ext cx="23151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Times New Roman"/>
              </a:rPr>
              <a:t>sind wirkungs- und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Times New Roman"/>
              </a:rPr>
              <a:t>bedeutungsl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62360" y="3803760"/>
            <a:ext cx="27464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Times New Roman"/>
              </a:rPr>
              <a:t>bewirkt etwas und die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Times New Roman"/>
              </a:rPr>
              <a:t>der Zielerreichu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47840" y="2736720"/>
            <a:ext cx="298548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Times New Roman"/>
              </a:rPr>
              <a:t>ist sinnstiftend und die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Times New Roman"/>
              </a:rPr>
              <a:t>der Situationsbewältigu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60948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80840" y="5987880"/>
            <a:ext cx="27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inmann-Rothmeier &amp; Man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90480" y="6256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9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56120" y="17640"/>
            <a:ext cx="4808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ie Weitergabe von Information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&amp; Entstehung neuen Wiss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4760" y="838080"/>
            <a:ext cx="91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87440" y="1765440"/>
            <a:ext cx="7621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41520" y="2197080"/>
          <a:ext cx="1320840" cy="37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1520" y="2197080"/>
                    <a:ext cx="1320840" cy="37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1" name=""/>
          <p:cNvGrpSpPr/>
          <p:nvPr/>
        </p:nvGrpSpPr>
        <p:grpSpPr>
          <a:xfrm>
            <a:off x="3014640" y="1866960"/>
            <a:ext cx="3771720" cy="1181160"/>
            <a:chOff x="3014640" y="1866960"/>
            <a:chExt cx="3771720" cy="1181160"/>
          </a:xfrm>
        </p:grpSpPr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3014640" y="1866960"/>
              <a:ext cx="377172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706560" y="2210040"/>
              <a:ext cx="24894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nformation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400800" y="914400"/>
            <a:ext cx="2742840" cy="2209320"/>
            <a:chOff x="6400800" y="914400"/>
            <a:chExt cx="2742840" cy="2209320"/>
          </a:xfrm>
        </p:grpSpPr>
        <p:pic>
          <p:nvPicPr>
            <p:cNvPr id="95" name="" descr=""/>
            <p:cNvPicPr/>
            <p:nvPr/>
          </p:nvPicPr>
          <p:blipFill>
            <a:blip r:embed="rId4"/>
            <a:stretch/>
          </p:blipFill>
          <p:spPr>
            <a:xfrm>
              <a:off x="6400800" y="914400"/>
              <a:ext cx="2742840" cy="220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6876000" y="1234440"/>
              <a:ext cx="1579680" cy="10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7009560" y="1600200"/>
            <a:ext cx="1528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ssen 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2600" y="609480"/>
            <a:ext cx="2197080" cy="1866960"/>
            <a:chOff x="12600" y="609480"/>
            <a:chExt cx="2197080" cy="1866960"/>
          </a:xfrm>
        </p:grpSpPr>
        <p:pic>
          <p:nvPicPr>
            <p:cNvPr id="99" name="" descr=""/>
            <p:cNvPicPr/>
            <p:nvPr/>
          </p:nvPicPr>
          <p:blipFill>
            <a:blip r:embed="rId5"/>
            <a:stretch/>
          </p:blipFill>
          <p:spPr>
            <a:xfrm>
              <a:off x="12600" y="609480"/>
              <a:ext cx="219708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 flipH="1">
              <a:off x="531720" y="865080"/>
              <a:ext cx="1265040" cy="8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67640" y="1074600"/>
            <a:ext cx="1376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sse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257800" y="3124080"/>
          <a:ext cx="3124080" cy="3076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57800" y="3124080"/>
                    <a:ext cx="3124080" cy="30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06920" y="47520"/>
            <a:ext cx="5320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Verschiedene Formen von Wi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60948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914400"/>
            <a:ext cx="335268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achwi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now-W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914400"/>
            <a:ext cx="335304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Handlungswi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now-H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2362320"/>
            <a:ext cx="3352680" cy="1523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xplizites Wi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prachlich artikulier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om Wissensträ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renn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2362320"/>
            <a:ext cx="3276720" cy="1523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plizites Wi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icht direkt artikulie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a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fahrungsabhäng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4419720"/>
            <a:ext cx="3352680" cy="1295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ndividuelles Wi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ssen der Org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isationsmitglie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15000" y="4419720"/>
            <a:ext cx="3352680" cy="1295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Organisationa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Wi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ssen der Organ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7600" y="1143000"/>
            <a:ext cx="1905120" cy="457200"/>
          </a:xfrm>
          <a:prstGeom prst="leftRightArrow">
            <a:avLst>
              <a:gd name="adj1" fmla="val 50000"/>
              <a:gd name="adj2" fmla="val 82953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57600" y="2895480"/>
            <a:ext cx="1905120" cy="457200"/>
          </a:xfrm>
          <a:prstGeom prst="leftRightArrow">
            <a:avLst>
              <a:gd name="adj1" fmla="val 50000"/>
              <a:gd name="adj2" fmla="val 82953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4876920"/>
            <a:ext cx="1905120" cy="457200"/>
          </a:xfrm>
          <a:prstGeom prst="leftRightArrow">
            <a:avLst>
              <a:gd name="adj1" fmla="val 50000"/>
              <a:gd name="adj2" fmla="val 82953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98400" y="6261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37040" y="6253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55960" y="0"/>
            <a:ext cx="3362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Wissens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7720" y="538200"/>
            <a:ext cx="80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1295280"/>
            <a:ext cx="7619760" cy="2819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ässt sich nicht auf (neue) Instrumente und Verfah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eduz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ietet eine neue Sicht auf Management-, Arbeits- &amp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rganisationsproz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124080" y="1300320"/>
            <a:ext cx="3721320" cy="219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1909800"/>
            <a:ext cx="3720960" cy="219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2824200"/>
            <a:ext cx="3721320" cy="219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17960" y="1849320"/>
            <a:ext cx="0" cy="163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20840" y="3503520"/>
            <a:ext cx="312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78160" y="4113360"/>
            <a:ext cx="254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2880" y="2747880"/>
            <a:ext cx="63720" cy="12826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46760" y="3886200"/>
            <a:ext cx="0" cy="22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2824200"/>
            <a:ext cx="1816200" cy="67320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d2d2d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805120"/>
            <a:ext cx="1716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Times New Roman"/>
              </a:rPr>
              <a:t>Wissens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1295280"/>
            <a:ext cx="11584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Times New Roman"/>
              </a:rPr>
              <a:t>Techn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68280" y="1905120"/>
            <a:ext cx="17496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Times New Roman"/>
              </a:rPr>
              <a:t>Organis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4640400"/>
            <a:ext cx="1110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Times New Roman"/>
              </a:rPr>
              <a:t>Mens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843120"/>
            <a:ext cx="7683480" cy="494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6800" y="5402160"/>
            <a:ext cx="16218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Times New Roman"/>
              </a:rPr>
              <a:t>Gesellscha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71320" y="0"/>
            <a:ext cx="6324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Komponenten des Wissensmanag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5120" y="538200"/>
            <a:ext cx="80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23640" y="6064200"/>
            <a:ext cx="27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inmann-Rothmeier &amp; Man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2T15:22:31Z</dcterms:created>
  <dc:creator>Katrin Winkler</dc:creator>
  <dc:description/>
  <dc:language>en-US</dc:language>
  <cp:lastModifiedBy>LMU</cp:lastModifiedBy>
  <cp:lastPrinted>1904-01-27T00:33:05Z</cp:lastPrinted>
  <dcterms:modified xsi:type="dcterms:W3CDTF">1904-01-28T23:39:49Z</dcterms:modified>
  <cp:revision>49</cp:revision>
  <dc:subject/>
  <dc:title>PowerPoint-Präsentation</dc:title>
</cp:coreProperties>
</file>